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639-6BAF-4A3E-A371-DECFA3F5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86F-F29D-40ED-84F1-B1B6CF0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E0D-0D62-4A3A-A481-B0A20FBF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AF7-F0CA-4574-B2D9-DF3A8796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D07-41B1-4BCB-BD61-1456A72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BA3-7E3A-4625-9923-3D9FB20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A9C-E023-4106-BD7C-B9866FF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98-A6E2-4287-8988-41B56F47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593-575D-4370-9790-E26B9C2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604-E657-4876-A956-779EB51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4F6-2144-4BEC-8832-0C5BC8D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926-33BF-4786-BC89-51BBB55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EA7-F4E8-4732-A9BE-F8153E776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кабря по 20 ч. 12 дека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 м/с. Температура воздуха ночью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нем 3-5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3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 м/с. Температура воздуха ночью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, ночью 13 дека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: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2-11T11:22:59Z</dcterms:modified>
  <cp:revision>25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