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681-0D29-4D8E-AF23-2BFDCBE5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7E9-8629-4BA7-9EF5-A005355B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D84-1DF2-4771-B0FE-A8BDDD6E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187-4851-4829-8E2E-107BAF6F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D23-5CC7-4E22-8436-DCFCD4F7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894-CC2A-4F37-95F6-C134D73B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C22-2007-476C-8DB0-93078088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960-FBB6-4CA9-8AAE-733CB66E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8B9-9B46-4E6F-A74C-9BE83020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F59-E354-4F7E-9CE9-5925E8C6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8E6-6CF7-4D36-979B-8F359FFF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210-2443-4F42-939D-7CEB2AE0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0E58-6BDB-409C-B09A-9B60D40667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</a:t>
                      </a: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kk-KZ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1 дека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1 декабря 2022 г. до 21 ч. 12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юго-западный ночью 3-8, днем 7-12 м/с. Температура воздуха ночью 21-23, днем 11-13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3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2 декабря 2022 г. до 09 ч. 13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западный, юго-западный 9-14 м/с. Температура воздуха 15-17 моро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571840"/>
            <a:ext cx="4641840" cy="763560"/>
          </a:xfrm>
          <a:prstGeom prst="rect">
            <a:avLst/>
          </a:prstGeom>
          <a:solidFill>
            <a:srgbClr val="f79646"/>
          </a:solidFill>
          <a:ln w="25560">
            <a:solidFill>
              <a:srgbClr val="fa8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12 декабря метеорологические условия будут способствовать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ю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ночью 12 декабря ожидается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ый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6"/>
          <p:cNvSpPr/>
          <p:nvPr/>
        </p:nvSpPr>
        <p:spPr>
          <a:xfrm>
            <a:off x="128520" y="221760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8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0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-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-0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1-07-01T07:38:07Z</cp:lastPrinted>
  <dcterms:modified xsi:type="dcterms:W3CDTF">2022-12-11T11:21:13Z</dcterms:modified>
  <cp:revision>30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