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676-E1BB-4AF7-8C43-CB232F80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F2A-737E-4E03-845C-54F92AC4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210-B07A-44A4-A08D-9A29035E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114-A60F-495D-9F7D-E7E0D90B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5C0-D7AC-4DD0-9F13-8DD7B1C5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B55-44FC-4D90-A8A7-87F3A919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556-4038-4897-A0E4-F94CB905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F8D-0789-4CA5-A7EF-6803C4E3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2AB-9330-41B3-9406-2BCC41FF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840-7A98-4CA5-A3D9-D7BAA808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0F6-B28D-47BE-82D8-DA9E20C2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21E-B032-4431-967C-1595D93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0EAA-64F9-441A-B5AD-5F1C84F32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</a:t>
                      </a: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0 дека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1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0 декабря 2022 г. до 21 ч. 11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юго-западный ночью 3-8, днем 9-14 м/с. Температура воздуха ночью 21-23, днем 12-14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1 декабря 2022 г. до 09 ч. 12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ка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юго-западный 9-14 м/с. Температура воздуха 18-20 моро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37120" y="2673360"/>
            <a:ext cx="4641840" cy="763560"/>
          </a:xfrm>
          <a:prstGeom prst="rect">
            <a:avLst/>
          </a:prstGeom>
          <a:solidFill>
            <a:srgbClr val="f79646"/>
          </a:solidFill>
          <a:ln w="25560">
            <a:solidFill>
              <a:srgbClr val="fa8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11 декабря метеорологические условия будут способствовать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ю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ночью 11 декабря ожидается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6"/>
          <p:cNvSpPr/>
          <p:nvPr/>
        </p:nvSpPr>
        <p:spPr>
          <a:xfrm>
            <a:off x="128520" y="221760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8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=0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-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9-0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1-07-01T07:38:07Z</cp:lastPrinted>
  <dcterms:modified xsi:type="dcterms:W3CDTF">2022-12-10T09:16:09Z</dcterms:modified>
  <cp:revision>30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