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2D0-0A30-4BF6-A337-B10D7AB7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37B-8C59-4AD2-8F5B-4EAAEC1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08A-C966-426D-9154-E57076E4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230-3C93-438F-B5BB-19D94965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922-01F1-4824-A5A8-96E204D7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2B6-DDFA-4A64-9167-BBF4981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5A6-4892-4D0C-B64F-6E6A279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E4B-0D35-4928-A73A-1A2A818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F69-4F6E-4410-8CE9-275F4C3F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D80F-F84E-43C6-8528-8708633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56D-8D24-4A6E-8957-B1D994B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184-C209-4DF3-9E4A-B6FE9B0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E07-4FD5-4237-9CA6-EE6E6B667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4</a:t>
                      </a: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декабря по 20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 м/с. Температура воздуха ночью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нем 3-5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 м/с. Температура воздуха ночью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де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, ночью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: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2-10T09:17:46Z</dcterms:modified>
  <cp:revision>25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