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91829-D115-4D66-9CC8-BFC1CDC4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7138-B54C-402F-9903-34A73D26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1B56A-CA5D-4F46-89E5-2DE466BC1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C8854-79DC-4ABA-926B-1B4A2C5BC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D9B8B-71AD-46F1-81D2-71347633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640F-F173-40FA-8BC0-FBBB0785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7472-347D-493A-86A0-9A897CAA0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F0AB-2AD6-4144-BA98-DEB6EF99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2455-675F-40A8-B319-DBDC65C6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53AE-C071-4488-9490-63BB71B1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47383-AC62-4375-BE3B-EAAC2636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4D90-59DF-4165-A9BB-5954E9453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24A1-352B-4FAF-8835-21AEC2D6429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7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3 желтоқс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kk-KZ" sz="1200" spc="-1" strike="noStrike">
                <a:solidFill>
                  <a:srgbClr val="000000"/>
                </a:solidFill>
                <a:latin typeface="Times New Roman"/>
                <a:ea typeface="Times New Roman"/>
              </a:rPr>
              <a:t>желтоқс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03 желтоқсан</a:t>
            </a:r>
            <a:r>
              <a:rPr b="0" lang="ru-RU" sz="1200" spc="-1" strike="noStrike">
                <a:solidFill>
                  <a:srgbClr val="000000"/>
                </a:solidFill>
                <a:latin typeface="Times New Roman"/>
              </a:rPr>
              <a:t> </a:t>
            </a:r>
            <a:r>
              <a:rPr b="1" lang="ru-RU" sz="1200" spc="-1" strike="noStrike">
                <a:solidFill>
                  <a:srgbClr val="000000"/>
                </a:solidFill>
                <a:latin typeface="Times New Roman"/>
                <a:ea typeface="Times New Roman"/>
              </a:rPr>
              <a:t>сағ. 21-ден 04 желтоқсан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жауын-шашынсыз</a:t>
            </a:r>
            <a:r>
              <a:rPr b="0" lang="ru-RU" sz="1200" spc="-1" strike="noStrike">
                <a:solidFill>
                  <a:srgbClr val="000000"/>
                </a:solidFill>
                <a:latin typeface="Times New Roman"/>
              </a:rPr>
              <a:t>.Желі 0-5 м/с. Ауа температурасы түнде 7-9, күндіз 2-4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5 желто</a:t>
            </a:r>
            <a:r>
              <a:rPr b="1" lang="ru-RU" sz="1200" spc="-1" strike="noStrike">
                <a:solidFill>
                  <a:srgbClr val="000000"/>
                </a:solidFill>
                <a:latin typeface="Times New Roman"/>
                <a:ea typeface="Times New Roman"/>
              </a:rPr>
              <a:t>қс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желтоқсан сағ. 21-ден 05 желтоқс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жауын-шашынсыз</a:t>
            </a:r>
            <a:r>
              <a:rPr b="0" lang="ru-RU" sz="1200" spc="-1" strike="noStrike">
                <a:solidFill>
                  <a:srgbClr val="000000"/>
                </a:solidFill>
                <a:latin typeface="Times New Roman"/>
              </a:rPr>
              <a:t>. Солтүстік-шығыс желі 2-7 м/с. Ауа температурасы 10-12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53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8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3 желтоқс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4 желтоқсан </a:t>
            </a:r>
            <a:r>
              <a:rPr b="0" lang="ru-RU" sz="1200" spc="-1" strike="noStrike">
                <a:solidFill>
                  <a:srgbClr val="000000"/>
                </a:solidFill>
                <a:latin typeface="Times New Roman"/>
              </a:rPr>
              <a:t>тәулік бойы, 05 желтоқсан түнде метеорологиялық жағдайлар қала атмосферасында ластаушы заттардың жиналуына 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779840"/>
            <a:chOff x="5070960" y="4557600"/>
            <a:chExt cx="4484160" cy="1779840"/>
          </a:xfrm>
        </p:grpSpPr>
        <p:pic>
          <p:nvPicPr>
            <p:cNvPr id="58" name="Таблица 25" descr=""/>
            <p:cNvPicPr/>
            <p:nvPr/>
          </p:nvPicPr>
          <p:blipFill>
            <a:blip r:embed="rId1"/>
            <a:stretch/>
          </p:blipFill>
          <p:spPr>
            <a:xfrm>
              <a:off x="5260680" y="5529960"/>
              <a:ext cx="4041720" cy="807480"/>
            </a:xfrm>
            <a:prstGeom prst="rect">
              <a:avLst/>
            </a:prstGeom>
            <a:ln w="0">
              <a:noFill/>
            </a:ln>
          </p:spPr>
        </p:pic>
        <p:sp>
          <p:nvSpPr>
            <p:cNvPr id="59" name="Прямоугольник 8"/>
            <p:cNvSpPr/>
            <p:nvPr/>
          </p:nvSpPr>
          <p:spPr>
            <a:xfrm>
              <a:off x="5070960" y="480492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03T08:54:59Z</dcterms:modified>
  <cp:revision>287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