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FA4-C4DB-4B93-B0A3-08C7D613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D14-18D2-4C34-ADE4-AFD87D6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DAF-2E68-4BF3-8E7C-6FA40D7B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A39-15FF-406C-95D9-B4458825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5B4-4C5A-46EC-AA01-4D8318C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061-6D02-4270-94A4-A152B3F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EF7-976A-47F6-9E9D-870F9A5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C05-DA0A-4D7A-A373-5DD71FF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09D-2CD3-4CD3-B328-B451290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7A1-DB2E-499B-AD7C-6B37DFB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2F3-34D6-415E-B8FA-1872416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2F2-C94D-45D1-AE62-F8F717A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6168-C5E2-4C78-8619-5EB53B372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3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4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3 декабря по 20 ч. 04 дека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восточный 7-12 м/с. Температура воздуха ночью 14-16, днем 6-8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5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05 дека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ный, северо-западный 9-14 м/с. Температура воздуха ночью 14-16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 д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декабря, ночью 05 дека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: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2-03T12:57:14Z</dcterms:modified>
  <cp:revision>25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