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A1A-DDC9-41BC-BD75-7A2B57F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485-D114-4B40-A49C-8A6B7D6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3FA-309F-4727-97C3-81CDD43B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811-6DB9-4543-8217-01736650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78C-6150-41FE-8C9C-71DFB18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AE3-67EE-43E5-9FA5-A4CA2A06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28B-46A8-44DD-8148-7FE0D7B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289-AD5A-4300-A085-4CDCF4D0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07A-54D7-457B-96E0-62155C5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8F8-3884-40EF-916F-FAA8055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EC8-9451-4D5B-9B10-65957D3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D51-43E3-496F-83C0-DE284824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17B-C2A7-48F5-A214-976886B67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3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3 декабря 2022 г. до 21 ч. 0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северо-восточный с переходом на северо-западный 3-8 м/с. Температура воздуха ночью 23-25, днем 19-21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4 декабря 2022 г. до 09 ч. 0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5-10 м/с. Температура воздуха 28-30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643280" cy="763560"/>
          </a:xfrm>
          <a:prstGeom prst="rect">
            <a:avLst/>
          </a:prstGeom>
          <a:solidFill>
            <a:srgbClr val="e46c0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28520" y="221760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2-03T10:31:57Z</dcterms:modified>
  <cp:revision>29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