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90E-7DAD-4F65-BB92-7193C99E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797-219B-44F3-BB5A-A0E476F5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D8A-AFE4-44EB-A636-A0633142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056-A6E8-4BEF-8290-4C6D020A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D67-21D7-4502-89A0-671B0FE6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403-F508-45EB-A90C-69AF0FD4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19A-9440-41B0-BD9C-10A8A04B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545-ACDD-4245-BB27-77FD1A6D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378-9505-4000-B527-9417B68D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A5F-25AB-43EC-AF7A-BE41286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2C2-047D-4DEC-B10E-8C65FFB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95D-026C-4E05-9CC2-51BAE0C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1C40-7BCB-48A5-8EFA-F4F1E5B43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7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8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7 ноября 2022 г. до 21 ч. 28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восточный 3-8, днем  порывы 13 м/с. Температура воздуха ночью 27-29, днем 16-18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9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8 ноября 2022 г. до 09 ч. 29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восточный, юго-восточный 9-14 м/с. Температура воздуха 23-25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643280" cy="763560"/>
          </a:xfrm>
          <a:prstGeom prst="rect">
            <a:avLst/>
          </a:prstGeom>
          <a:solidFill>
            <a:srgbClr val="f2902e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28 ноября 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ночью 28 ноября ожидается повыш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8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-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-0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28520" y="10008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ОСТАВЛЕНИИ ПРЕДУПРЕЖДЕНИЙ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МУ РАЗЛИЧНОЙ СТЕПЕНИ РЕКОМЕНДУЕТСЯ ПРИДЕРЖИВАТЬСЯ СЛЕДУЮЩИ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1-27T09:47:31Z</dcterms:modified>
  <cp:revision>29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