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258-AD42-4FB3-A0F5-E71F6A6C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91F-A778-4A35-B32F-DC8C4A53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6BF-0B40-4533-8B38-C9010840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66D-7CB4-47D0-9A2C-D851D33F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C7F-A5F6-4296-B526-7744CF1B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779-8AFB-43DF-A509-F75FCCD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A87-08E3-47BA-95E2-1BA1789F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66C-CC7A-470F-BCF6-E338845F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A00-3ABC-4285-ADAB-1BABCF13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391-AF90-428F-9B90-FF486CD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D21-BD9F-4D4C-8C14-10FDE125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DAE-4A53-47CD-8CC0-EA58C8A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5B7E-CA0D-49B8-8C01-C7F57722F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7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8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7 ноября по 20 ч. 28 но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восточный, северо-восточный 9-14 м/с. Температура воздуха ночью 4-6, днем 0-2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9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8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29 но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восточный, северо-восточный 9-14 м/с. Температура воздуха ночью 7-9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н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ноября, ночью 29 но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: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04840" y="203040"/>
            <a:ext cx="457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1-27T09:50:24Z</dcterms:modified>
  <cp:revision>25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