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BA5-DC59-4E93-8A09-784D1EA6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EE2-9BAE-47D1-A950-7BD2B00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8B2-811E-40A3-9088-79D04671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678-1E9C-4925-A3B2-96D23611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266-CD62-458F-B7E8-6D74DB39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00B-2980-49C8-8D6E-4541DB5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790-4BC8-4FA1-A65B-D8CBC12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3EA-38CC-4AF7-9C1B-E0109BEC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AE7-C11C-47DD-8F28-2B7CA7B7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744-416A-4B85-AF0B-FC446AC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EF4-5A80-4FA1-9015-693DEE2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306-8E35-478B-96E0-A579C5E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E46C-6886-441B-8B1B-C520EDBA5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6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6 ноября 2022 г. до 21 ч. 2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восточный, юго-восточный 3-8 м/с. Температура воздуха ночью 30-32, днем 22-24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8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7 ноября 2022 г. до 09 ч. 28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восточный                        9-14 м/с. Температура воздуха 24-26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643280" cy="763560"/>
          </a:xfrm>
          <a:prstGeom prst="rect">
            <a:avLst/>
          </a:prstGeom>
          <a:solidFill>
            <a:srgbClr val="f2902e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 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27 ноября ожидается повыш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28520" y="10008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ОСТАВЛЕНИИ ПРЕДУПРЕЖДЕНИЙ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МУ РАЗЛИЧНОЙ СТЕПЕНИ РЕКОМЕНДУЕТСЯ ПРИДЕРЖИВАТЬСЯ СЛЕДУЮЩИ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1-26T09:47:15Z</dcterms:modified>
  <cp:revision>29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