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362A-497F-4225-9E05-BF98E4E0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478B-CA93-42C8-BC01-370CF030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64F2-0DCF-40B2-BD0C-90BBF2CF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237B-F548-44EC-A469-5EB881F5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A0DB-B9C9-41B9-8800-DB1BE2DD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21E-DCD2-4048-AE61-3300FE87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A0C1-21FD-414C-BD68-F3DCFF08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EECC-E145-4151-8A2C-E0FE3EF3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0E0D-FCCC-4A31-AAB1-CCF540D0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58A1-4A24-41CA-94DF-610DCE54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8B8A-172C-4DEF-AE55-E0DC6951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9B1B-C249-4F44-BCE6-CB626E31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CC68-71A8-4062-A6C4-D835B27320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35120"/>
          <a:ext cx="4465800" cy="217980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17980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№3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6 но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Прямоугольник 2"/>
          <p:cNvSpPr/>
          <p:nvPr/>
        </p:nvSpPr>
        <p:spPr>
          <a:xfrm>
            <a:off x="4952880" y="112680"/>
            <a:ext cx="4824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7 но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26 ноября по 20 ч. 27 ноября 2022 г.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садков. Ветер восточный 9-14, порывы 15-20 м/с. Температура воздуха ночью 0-2, днем 1-3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8 но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27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08 ч. 28 ноября 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садков. Ветер восточный 9-14 м/с. Температура воздуха ночью 1-3 мо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140440" y="6527880"/>
          <a:ext cx="4730760" cy="21276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Прямоугольник 21"/>
          <p:cNvSpPr/>
          <p:nvPr/>
        </p:nvSpPr>
        <p:spPr>
          <a:xfrm>
            <a:off x="4960800" y="3500280"/>
            <a:ext cx="48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6 н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68800" y="4000680"/>
          <a:ext cx="4624560" cy="2527200"/>
        </p:xfrm>
        <a:graphic>
          <a:graphicData uri="http://schemas.openxmlformats.org/drawingml/2006/table">
            <a:tbl>
              <a:tblPr/>
              <a:tblGrid>
                <a:gridCol w="1812960"/>
                <a:gridCol w="1386000"/>
                <a:gridCol w="142560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, мкг/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ревышения ПД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5"/>
          <p:cNvSpPr/>
          <p:nvPr/>
        </p:nvSpPr>
        <p:spPr>
          <a:xfrm>
            <a:off x="5024520" y="3143160"/>
            <a:ext cx="468144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 1, 2, 3 степени НМУ отсу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2071800"/>
            <a:ext cx="4681440" cy="100656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ноября, ночью 28 ноября 2022 года метеорологические условия будут способствовать рассеиванию загрязняющих веществ в атмосфере г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ожидается пониженный уровень загрязнения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1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Группа 5"/>
          <p:cNvGrpSpPr/>
          <p:nvPr/>
        </p:nvGrpSpPr>
        <p:grpSpPr>
          <a:xfrm>
            <a:off x="112680" y="246240"/>
            <a:ext cx="4840200" cy="585360"/>
            <a:chOff x="112680" y="246240"/>
            <a:chExt cx="4840200" cy="585360"/>
          </a:xfrm>
        </p:grpSpPr>
        <p:sp>
          <p:nvSpPr>
            <p:cNvPr id="58" name="TextBox 15"/>
            <p:cNvSpPr/>
            <p:nvPr/>
          </p:nvSpPr>
          <p:spPr>
            <a:xfrm>
              <a:off x="317160" y="246240"/>
              <a:ext cx="463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КОМЕНДАЦИИ ДЛЯ НАСЕЛЕНИЯ ПРИ НМУ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Box 16"/>
            <p:cNvSpPr/>
            <p:nvPr/>
          </p:nvSpPr>
          <p:spPr>
            <a:xfrm>
              <a:off x="112680" y="555120"/>
              <a:ext cx="4810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176040" algn="just"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комендации отсутствую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Прямоугольник 26"/>
          <p:cNvSpPr/>
          <p:nvPr/>
        </p:nvSpPr>
        <p:spPr>
          <a:xfrm>
            <a:off x="276120" y="4587840"/>
            <a:ext cx="466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тырау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5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микрорайон Самал, улица А.Кекильбаева, 1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5 – микрорайон Курсай, улица Карабау, строение 1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6 – микрорайон Жулдыз, улица №6, 29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- район Химпоселок, Сырдарья №3 (спец, школа для детей с нарушением реч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- микрайон Береке, район промзоны Бер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13"/>
          <p:cNvSpPr/>
          <p:nvPr/>
        </p:nvSpPr>
        <p:spPr>
          <a:xfrm>
            <a:off x="4923000" y="92160"/>
            <a:ext cx="48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24"/>
          <p:cNvGrpSpPr/>
          <p:nvPr/>
        </p:nvGrpSpPr>
        <p:grpSpPr>
          <a:xfrm>
            <a:off x="5257800" y="4489560"/>
            <a:ext cx="4290840" cy="1747800"/>
            <a:chOff x="5257800" y="4489560"/>
            <a:chExt cx="4290840" cy="1747800"/>
          </a:xfrm>
        </p:grpSpPr>
        <p:pic>
          <p:nvPicPr>
            <p:cNvPr id="63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260680" y="5434560"/>
              <a:ext cx="4041720" cy="8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Прямоугольник 8"/>
            <p:cNvSpPr/>
            <p:nvPr/>
          </p:nvSpPr>
          <p:spPr>
            <a:xfrm>
              <a:off x="5271480" y="4672800"/>
              <a:ext cx="2125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Нур-Султан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оугольник 20"/>
            <p:cNvSpPr/>
            <p:nvPr/>
          </p:nvSpPr>
          <p:spPr>
            <a:xfrm>
              <a:off x="5257800" y="4489560"/>
              <a:ext cx="4290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Прямоугольник 11"/>
          <p:cNvSpPr/>
          <p:nvPr/>
        </p:nvSpPr>
        <p:spPr>
          <a:xfrm>
            <a:off x="5018040" y="640080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5114880" y="6165720"/>
            <a:ext cx="452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 Қабдуалиева М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997520" y="528480"/>
          <a:ext cx="4703760" cy="816120"/>
        </p:xfrm>
        <a:graphic>
          <a:graphicData uri="http://schemas.openxmlformats.org/drawingml/2006/table">
            <a:tbl>
              <a:tblPr/>
              <a:tblGrid>
                <a:gridCol w="1035000"/>
                <a:gridCol w="3668760"/>
              </a:tblGrid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й 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иж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2 ≤ Р &lt; 0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9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Прямоугольник 30"/>
          <p:cNvSpPr/>
          <p:nvPr/>
        </p:nvSpPr>
        <p:spPr>
          <a:xfrm>
            <a:off x="4952880" y="1324080"/>
            <a:ext cx="480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1"/>
          <p:cNvSpPr/>
          <p:nvPr/>
        </p:nvSpPr>
        <p:spPr>
          <a:xfrm>
            <a:off x="4952880" y="2106720"/>
            <a:ext cx="47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016600" y="2382840"/>
          <a:ext cx="4680000" cy="2225520"/>
        </p:xfrm>
        <a:graphic>
          <a:graphicData uri="http://schemas.openxmlformats.org/drawingml/2006/table">
            <a:tbl>
              <a:tblPr/>
              <a:tblGrid>
                <a:gridCol w="861840"/>
                <a:gridCol w="381816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Box 33"/>
          <p:cNvSpPr/>
          <p:nvPr/>
        </p:nvSpPr>
        <p:spPr>
          <a:xfrm>
            <a:off x="4960800" y="4602240"/>
            <a:ext cx="48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</cp:lastModifiedBy>
  <cp:lastPrinted>2022-11-09T06:48:13Z</cp:lastPrinted>
  <dcterms:modified xsi:type="dcterms:W3CDTF">2022-11-26T09:53:27Z</dcterms:modified>
  <cp:revision>25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