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2CA-6BA5-432D-BBD4-7FEF6B0C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853-F856-4F2A-81D3-48075A1C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5A1-C139-441E-877D-CD1D573C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74F-5612-48DE-8624-9AD1F2EA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D98-834C-45C8-AEA9-D0B9AC01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7BCD-CC8F-4AB2-9EC5-4F0F8917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11E-F267-41BA-B73C-D9C43FF9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7EB-7318-4FB8-B3EB-2ECAB6EA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D49-7A61-4CAB-A994-74681216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1D7-FA93-48D3-AA5E-F7C1E551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1E1-D5D0-4DC9-BF73-4A13210E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083-88DA-4E13-834D-AFED2B3D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C419-851F-4869-8D27-BE9AE3643E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 но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5024520" y="371484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я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1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1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20 ноября 2022 г. до 21 ч. 21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днем небольшой снег. Ночью и утром туман. Ветер юго-восточный с переходом на юго-западный 2-7 м/с. Температура воздуха ночью 17-19, днем 6-8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2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21 ноября 2022 г. до 09 ч. 22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западный                        3-8 м/с. Температура воздуха 11-13 мо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500200"/>
            <a:ext cx="4643280" cy="763560"/>
          </a:xfrm>
          <a:prstGeom prst="rect">
            <a:avLst/>
          </a:prstGeom>
          <a:solidFill>
            <a:srgbClr val="e46c0a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, ночью 22 ноября метеорологические условия будут способствовать  накоплению загрязняющих веществ в атмосфере гор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21, ночью 22 ноября ожидается повышенный уровень загрязнения воздух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42900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26"/>
          <p:cNvSpPr/>
          <p:nvPr/>
        </p:nvSpPr>
        <p:spPr>
          <a:xfrm>
            <a:off x="142920" y="404172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24"/>
          <p:cNvGrpSpPr/>
          <p:nvPr/>
        </p:nvGrpSpPr>
        <p:grpSpPr>
          <a:xfrm>
            <a:off x="5153040" y="4922280"/>
            <a:ext cx="4546440" cy="1408680"/>
            <a:chOff x="5153040" y="4922280"/>
            <a:chExt cx="4546440" cy="1408680"/>
          </a:xfrm>
        </p:grpSpPr>
        <p:pic>
          <p:nvPicPr>
            <p:cNvPr id="58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7000" y="5526000"/>
              <a:ext cx="404172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Прямоугольник 8"/>
            <p:cNvSpPr/>
            <p:nvPr/>
          </p:nvSpPr>
          <p:spPr>
            <a:xfrm>
              <a:off x="5197320" y="492228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Прямоугольник 20"/>
            <p:cNvSpPr/>
            <p:nvPr/>
          </p:nvSpPr>
          <p:spPr>
            <a:xfrm>
              <a:off x="5153040" y="5087160"/>
              <a:ext cx="45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=0,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-0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9-0,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=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281160"/>
            <a:ext cx="44323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ДОСТАВЛЕНИИ ПРЕДУПРЕЖДЕНИЙ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МУ РАЗЛИЧНОЙ СТЕПЕНИ РЕКОМЕНДУЕТСЯ ПРИДЕРЖИВАТЬСЯ СЛЕДУЮЩИХ 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ть время пребывания на открытом воздухе, особенно вблизи автотрасс или других источников загрязнения. Детям и беременным женщинам следует отказаться от длительных прогулок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ям, страдающим хроническими заболеваниями легких, сердечно-сосудистыми, аллергическими заболеваниями, при нахождении на открытом воздухе, необходимо иметь при себе необходимые лекарственные препарат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ть физическую нагрузку на открытом воздухе. Занятие физкультурой и спортом проводить в закрытых спортивных комплек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Moldir</cp:lastModifiedBy>
  <cp:lastPrinted>2021-07-01T07:38:07Z</cp:lastPrinted>
  <dcterms:modified xsi:type="dcterms:W3CDTF">2022-11-20T09:22:18Z</dcterms:modified>
  <cp:revision>29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