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4B58A-879B-4426-9A5E-46F7C78D6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E792F-BF68-4470-AC3D-CB9E2B8D6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1A355-48DE-44CB-9E15-2C1981C05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4A2CD-DEBF-4224-A2AA-5088157B4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DCEA4-9E52-490F-BFB3-EB7E8485E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B28B9-6BD4-410D-8362-C8B74AE82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3A6B7-0A6E-4196-8D09-461B0845E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8D5CB-3EB0-44FC-8B21-8D91CB409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6D7C9-8BD1-44A1-B767-7D71DC60D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8E238-E4D6-4D89-914E-5B3B9F08B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AD293-6A9E-4269-9504-BEC6E8E3A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72A6F-04A3-40DB-B28F-82E7AC376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2C7D-1D76-4D52-93C4-C59D1C54367D}"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324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0 қараша</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21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1 </a:t>
            </a:r>
            <a:r>
              <a:rPr b="1" lang="kk-KZ" sz="1200" spc="-1" strike="noStrike">
                <a:solidFill>
                  <a:srgbClr val="000000"/>
                </a:solidFill>
                <a:latin typeface="Times New Roman"/>
                <a:ea typeface="Times New Roman"/>
              </a:rPr>
              <a:t>қараша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 қараша сағ. 21-ден 21 қараша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кей уақытта жауын-шашын (көбінесе жаңбыр), тұман. Жел 3-8 м/с. Ауа температурасы түнде 2-4, күндіз 8-10 градус жылы</a:t>
            </a:r>
            <a:r>
              <a:rPr b="1" lang="ru-RU" sz="1200" spc="-1" strike="noStrike">
                <a:solidFill>
                  <a:srgbClr val="000000"/>
                </a:solidFill>
                <a:latin typeface="Times New Roman"/>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22 қара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1 қараша сағ. 21-ден 22 қараша сағ. 09-ға дейін</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өшпелі бұлтты, кей уақытта жауын-шашын (жаңбыр, қар), тұман. . Жел 3-8 м/с. Ауа температурасы 0-2 градус жылы</a:t>
            </a:r>
            <a:r>
              <a:rPr b="1" lang="ru-RU" sz="1200" spc="-1" strike="noStrike">
                <a:solidFill>
                  <a:srgbClr val="000000"/>
                </a:solidFill>
                <a:latin typeface="Times New Roman"/>
              </a:rPr>
              <a:t>.</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8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0</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87</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729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89</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63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0 қараша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21 қараша </a:t>
            </a:r>
            <a:r>
              <a:rPr b="0" lang="ru-RU" sz="1200" spc="-1" strike="noStrike">
                <a:solidFill>
                  <a:srgbClr val="000000"/>
                </a:solidFill>
                <a:latin typeface="Times New Roman"/>
              </a:rPr>
              <a:t>тәулік бойы, 22 қараша түнде метеорологиялық жағдайлар қала атмосферасында ластаушы заттардың сейілуіне</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Times New Roman"/>
            </a:endParaRPr>
          </a:p>
        </p:txBody>
      </p:sp>
      <p:sp>
        <p:nvSpPr>
          <p:cNvPr id="56" name="Прямоугольник 26"/>
          <p:cNvSpPr/>
          <p:nvPr/>
        </p:nvSpPr>
        <p:spPr>
          <a:xfrm>
            <a:off x="163440" y="2050920"/>
            <a:ext cx="4708440" cy="465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Қазақ ұлттық университеті айм.Әл-Фараби Атындағы Қазұу;</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 Боралдай Автошаруашылығы, Аэродромная көшесі</a:t>
            </a:r>
            <a:r>
              <a:rPr b="0" lang="ru-RU"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 «Алматы арена» мұз айды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 70 разъезд, №32 жалпы білім беретін мектеп;</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a:t>
            </a:r>
            <a:r>
              <a:rPr b="0" lang="ru-RU" sz="1200" spc="-1" strike="noStrike">
                <a:solidFill>
                  <a:srgbClr val="000000"/>
                </a:solidFill>
                <a:latin typeface="Times New Roman"/>
                <a:ea typeface="Times New Roman"/>
              </a:rPr>
              <a:t>«Халық арена» Мұз аренасы, «Думан» шағын аудан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7 бекет – </a:t>
            </a:r>
            <a:r>
              <a:rPr b="0" lang="ru-RU" sz="1200" spc="-1" strike="noStrike">
                <a:solidFill>
                  <a:srgbClr val="000000"/>
                </a:solidFill>
                <a:latin typeface="Times New Roman"/>
                <a:ea typeface="Times New Roman"/>
              </a:rPr>
              <a:t>Әйгерім 2 шағын ауданы, В. Бенберин көшесі, 6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8 бекет – </a:t>
            </a:r>
            <a:r>
              <a:rPr b="0" lang="ru-RU" sz="1200" spc="-1" strike="noStrike">
                <a:solidFill>
                  <a:srgbClr val="000000"/>
                </a:solidFill>
                <a:latin typeface="Times New Roman"/>
              </a:rPr>
              <a:t>аэрологиялық станция (әуежай ауданы)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хметов к-сі, 50</a:t>
            </a:r>
            <a:r>
              <a:rPr b="0" lang="kk-KZ" sz="1200" spc="-1" strike="noStrike">
                <a:solidFill>
                  <a:srgbClr val="000000"/>
                </a:solidFill>
                <a:latin typeface="Times New Roman"/>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9 бекет – Түрксіб ауданының АІІБ, Р. Зорге көшесі, 14;</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0 бекет – «Шаңырақ» шағынауданы, №26 мектеп, Жанқожа батыр көшесі, 202;</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16 бекет – Айнабұлақ-3 ш.а.;</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200" spc="-1" strike="noStrike">
                <a:solidFill>
                  <a:srgbClr val="000000"/>
                </a:solidFill>
                <a:latin typeface="Times New Roman"/>
                <a:ea typeface="Times New Roman"/>
              </a:rPr>
              <a:t>№ </a:t>
            </a:r>
            <a:r>
              <a:rPr b="0" i="1" lang="kk-KZ" sz="1200" spc="-1" strike="noStrike">
                <a:solidFill>
                  <a:srgbClr val="000000"/>
                </a:solidFill>
                <a:latin typeface="Times New Roman"/>
                <a:ea typeface="Times New Roman"/>
              </a:rPr>
              <a:t>26 бекет – Тастақ-1 ш. а., Төле би к-сі, 249, «№8 қалалық балалар емханасы» ММ</a:t>
            </a:r>
            <a:endParaRPr b="0" lang="en-US" sz="1200" spc="-1" strike="noStrike">
              <a:solidFill>
                <a:srgbClr val="000000"/>
              </a:solidFill>
              <a:latin typeface="Times New Roman"/>
            </a:endParaRPr>
          </a:p>
        </p:txBody>
      </p:sp>
      <p:sp>
        <p:nvSpPr>
          <p:cNvPr id="57"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8" name="Группа 24"/>
          <p:cNvGrpSpPr/>
          <p:nvPr/>
        </p:nvGrpSpPr>
        <p:grpSpPr>
          <a:xfrm>
            <a:off x="5070960" y="4557600"/>
            <a:ext cx="4484160" cy="1779840"/>
            <a:chOff x="5070960" y="4557600"/>
            <a:chExt cx="4484160" cy="1779840"/>
          </a:xfrm>
        </p:grpSpPr>
        <p:pic>
          <p:nvPicPr>
            <p:cNvPr id="59" name="Таблица 25" descr=""/>
            <p:cNvPicPr/>
            <p:nvPr/>
          </p:nvPicPr>
          <p:blipFill>
            <a:blip r:embed="rId1"/>
            <a:stretch/>
          </p:blipFill>
          <p:spPr>
            <a:xfrm>
              <a:off x="5260680" y="5529960"/>
              <a:ext cx="4041720" cy="807480"/>
            </a:xfrm>
            <a:prstGeom prst="rect">
              <a:avLst/>
            </a:prstGeom>
            <a:ln w="0">
              <a:noFill/>
            </a:ln>
          </p:spPr>
        </p:pic>
        <p:sp>
          <p:nvSpPr>
            <p:cNvPr id="60" name="Прямоугольник 8"/>
            <p:cNvSpPr/>
            <p:nvPr/>
          </p:nvSpPr>
          <p:spPr>
            <a:xfrm>
              <a:off x="5070960" y="4805640"/>
              <a:ext cx="252468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Астана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Прямоугольник 20"/>
            <p:cNvSpPr/>
            <p:nvPr/>
          </p:nvSpPr>
          <p:spPr>
            <a:xfrm>
              <a:off x="5265000" y="4557600"/>
              <a:ext cx="429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3"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Times New Roman"/>
            </a:endParaRPr>
          </a:p>
        </p:txBody>
      </p:sp>
      <p:graphicFrame>
        <p:nvGraphicFramePr>
          <p:cNvPr id="64"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31"/>
          <p:cNvSpPr/>
          <p:nvPr/>
        </p:nvSpPr>
        <p:spPr>
          <a:xfrm>
            <a:off x="395280" y="792000"/>
            <a:ext cx="139536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Times New Roman"/>
              </a:rPr>
              <a:t>Ұсыныстар жоқ</a:t>
            </a:r>
            <a:endParaRPr b="0" lang="en-US" sz="1400" spc="-1" strike="noStrike">
              <a:solidFill>
                <a:srgbClr val="000000"/>
              </a:solidFill>
              <a:latin typeface="Times New Roman"/>
            </a:endParaRPr>
          </a:p>
        </p:txBody>
      </p:sp>
      <p:sp>
        <p:nvSpPr>
          <p:cNvPr id="66"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7"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8"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cp:lastModifiedBy>
  <cp:lastPrinted>2021-07-01T07:38:07Z</cp:lastPrinted>
  <dcterms:modified xsi:type="dcterms:W3CDTF">2022-11-20T09:18:52Z</dcterms:modified>
  <cp:revision>2841</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