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DC8B-6F4D-4A7E-BB3F-4F02EFD06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6FA4-C425-4271-942D-C417168AD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B11E-EFAF-4790-9DF9-7C42542AA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6707-7655-4677-A8DA-E207E3A9D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7FDD-E051-456A-8E46-A433EBDAA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C23C-BB01-49E5-879C-BA92B186F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0990-6E8D-4F8F-862C-72EFC0535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A640-033C-49E0-AC96-4C5954192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A537-C7F0-4455-A970-9B5AFD0BD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AB03-A5DC-425C-B61F-572561F51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F1F9-242B-4552-A32D-C88F6AA8D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1CC0-A30B-4B43-80D0-FE15337FB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D6208-A46E-4BBD-A892-EC3C32FD63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3"/>
          <p:cNvSpPr/>
          <p:nvPr/>
        </p:nvSpPr>
        <p:spPr>
          <a:xfrm>
            <a:off x="128520" y="115920"/>
            <a:ext cx="9648720" cy="66261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Прямая соединительная линия 12"/>
          <p:cNvSpPr/>
          <p:nvPr/>
        </p:nvSpPr>
        <p:spPr>
          <a:xfrm>
            <a:off x="4937040" y="115920"/>
            <a:ext cx="15840" cy="6624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4520" y="6392880"/>
          <a:ext cx="4465440" cy="347760"/>
        </p:xfrm>
        <a:graphic>
          <a:graphicData uri="http://schemas.openxmlformats.org/drawingml/2006/table">
            <a:tbl>
              <a:tblPr/>
              <a:tblGrid>
                <a:gridCol w="4465440"/>
              </a:tblGrid>
              <a:tr h="347760">
                <a:tc>
                  <a:txBody>
                    <a:bodyPr lIns="114480" rIns="114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. </a:t>
                      </a:r>
                      <a:r>
                        <a:rPr b="1" i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тырау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TextBox 7"/>
          <p:cNvSpPr/>
          <p:nvPr/>
        </p:nvSpPr>
        <p:spPr>
          <a:xfrm>
            <a:off x="128520" y="216000"/>
            <a:ext cx="482436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инистерство экологии, геологии и природных ресурсов Республики Казахста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ГП «КАЗГИДРОМЕТ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Рисунок 1" descr=""/>
          <p:cNvPicPr/>
          <p:nvPr/>
        </p:nvPicPr>
        <p:blipFill>
          <a:blip r:embed="rId1"/>
          <a:srcRect l="0" t="17821" r="0" b="17471"/>
          <a:stretch/>
        </p:blipFill>
        <p:spPr>
          <a:xfrm>
            <a:off x="1352520" y="1023840"/>
            <a:ext cx="2028960" cy="13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" name=""/>
          <p:cNvGraphicFramePr/>
          <p:nvPr/>
        </p:nvGraphicFramePr>
        <p:xfrm>
          <a:off x="307800" y="2535120"/>
          <a:ext cx="4465800" cy="2179800"/>
        </p:xfrm>
        <a:graphic>
          <a:graphicData uri="http://schemas.openxmlformats.org/drawingml/2006/table">
            <a:tbl>
              <a:tblPr/>
              <a:tblGrid>
                <a:gridCol w="4465800"/>
              </a:tblGrid>
              <a:tr h="2179800">
                <a:tc>
                  <a:txBody>
                    <a:bodyPr lIns="114480" rIns="114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ЕЖЕДНЕВНЫЙ БЮЛЛЕТЕНЬ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ОСТОЯНИЯ ВОЗДУШНОГО БАССЕЙНА </a:t>
                      </a:r>
                      <a:r>
                        <a:rPr b="1" i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№3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. </a:t>
                      </a:r>
                      <a:r>
                        <a:rPr b="1" i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тырау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宋体"/>
                        </a:rPr>
                        <a:t>20 ноября </a:t>
                      </a:r>
                      <a:r>
                        <a:rPr b="1" i="1" lang="kk-KZ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宋体"/>
                        </a:rPr>
                        <a:t>2022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Прямоугольник 2"/>
          <p:cNvSpPr/>
          <p:nvPr/>
        </p:nvSpPr>
        <p:spPr>
          <a:xfrm>
            <a:off x="4952880" y="112680"/>
            <a:ext cx="48243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 погоды по г. Атыра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21 ноябр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20 ч. 20 ноября по 20 ч. 21 ноября 2022 г.</a:t>
            </a:r>
            <a:r>
              <a:rPr b="0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осадков. Ночью и утром туман. Ветер северо-западный 0-5 м/с. Температура воздуха ночью 2-4, днем 6-8 теп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22 ноябр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20 ч. 21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оября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08 ч. 22 ноября 2022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осадков. Туман. Ветер южный 5-10 м/с. Температура воздуха ночью 2-4 теп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140440" y="6527880"/>
          <a:ext cx="4730760" cy="212760"/>
        </p:xfrm>
        <a:graphic>
          <a:graphicData uri="http://schemas.openxmlformats.org/drawingml/2006/table">
            <a:tbl>
              <a:tblPr/>
              <a:tblGrid>
                <a:gridCol w="4730760"/>
              </a:tblGrid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К согласно «Санитарно-эпидемиологическим правилам и нормам к атмосферному воздуху» от 28.02.2015г №16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Прямоугольник 21"/>
          <p:cNvSpPr/>
          <p:nvPr/>
        </p:nvSpPr>
        <p:spPr>
          <a:xfrm>
            <a:off x="4960800" y="3500280"/>
            <a:ext cx="482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ние атмосферного воздуха  г. Атыра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20 но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бря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2 го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5068800" y="4000680"/>
          <a:ext cx="4624560" cy="2527200"/>
        </p:xfrm>
        <a:graphic>
          <a:graphicData uri="http://schemas.openxmlformats.org/drawingml/2006/table">
            <a:tbl>
              <a:tblPr/>
              <a:tblGrid>
                <a:gridCol w="1812960"/>
                <a:gridCol w="1386000"/>
                <a:gridCol w="1425600"/>
              </a:tblGrid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рязняющее веществ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ическ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центрация, мкг/м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тность превышения ПД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вешенные частицы РМ-2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вешенные частицы РМ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6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оксид сер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сид углер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оксид азо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сид азо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оводор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миа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1" name="TextBox 15"/>
          <p:cNvSpPr/>
          <p:nvPr/>
        </p:nvSpPr>
        <p:spPr>
          <a:xfrm>
            <a:off x="5024520" y="3143160"/>
            <a:ext cx="4681440" cy="276480"/>
          </a:xfrm>
          <a:prstGeom prst="rect">
            <a:avLst/>
          </a:prstGeom>
          <a:solidFill>
            <a:srgbClr val="92d05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упреждение  1, 2, 3 степени НМУ отсутству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13"/>
          <p:cNvSpPr/>
          <p:nvPr/>
        </p:nvSpPr>
        <p:spPr>
          <a:xfrm>
            <a:off x="5024520" y="2071800"/>
            <a:ext cx="4681440" cy="1006560"/>
          </a:xfrm>
          <a:prstGeom prst="rect">
            <a:avLst/>
          </a:prstGeom>
          <a:solidFill>
            <a:srgbClr val="e46c0a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 ноября, ночью 22 ноября 2022 года метеорологические условия будут способствовать накоплению загрязняющих веществ в атмосфере гор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целом по городу ожидается пониженный уровень загрязнения воздух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59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61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3"/>
          <p:cNvSpPr/>
          <p:nvPr/>
        </p:nvSpPr>
        <p:spPr>
          <a:xfrm>
            <a:off x="128520" y="115920"/>
            <a:ext cx="9648720" cy="66261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ая соединительная линия 12"/>
          <p:cNvSpPr/>
          <p:nvPr/>
        </p:nvSpPr>
        <p:spPr>
          <a:xfrm>
            <a:off x="4937040" y="115920"/>
            <a:ext cx="15840" cy="6624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76120" y="4587840"/>
            <a:ext cx="4660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ороде Атырау наблюдения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уровнем загрязнения атмосферного воздух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водится на 5 постах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1 – микрорайон Самал, улица А.Кекильбаева, 15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5 – микрорайон Курсай, улица Карабау, строение 12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6 – микрорайон Жулдыз, улица №6, 29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8 - район Химпоселок, Сырдарья №3 (спец, школа для детей с нарушением реч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9 - микрайон Береке, район промзоны Бере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оугольник 13"/>
          <p:cNvSpPr/>
          <p:nvPr/>
        </p:nvSpPr>
        <p:spPr>
          <a:xfrm>
            <a:off x="4923000" y="92160"/>
            <a:ext cx="485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метр «Р» является обобщённым показателем загрязнения воздуха по городу в целом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" name="Группа 24"/>
          <p:cNvGrpSpPr/>
          <p:nvPr/>
        </p:nvGrpSpPr>
        <p:grpSpPr>
          <a:xfrm>
            <a:off x="5257800" y="4489560"/>
            <a:ext cx="4290840" cy="1747800"/>
            <a:chOff x="5257800" y="4489560"/>
            <a:chExt cx="4290840" cy="1747800"/>
          </a:xfrm>
        </p:grpSpPr>
        <p:pic>
          <p:nvPicPr>
            <p:cNvPr id="60" name="Таблица 25" descr=""/>
            <p:cNvPicPr/>
            <p:nvPr/>
          </p:nvPicPr>
          <p:blipFill>
            <a:blip r:embed="rId1"/>
            <a:stretch/>
          </p:blipFill>
          <p:spPr>
            <a:xfrm>
              <a:off x="5260680" y="5434560"/>
              <a:ext cx="4041720" cy="80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Прямоугольник 8"/>
            <p:cNvSpPr/>
            <p:nvPr/>
          </p:nvSpPr>
          <p:spPr>
            <a:xfrm>
              <a:off x="5271480" y="4672800"/>
              <a:ext cx="212544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. Нур-Султан, ул. Мангилик ел 11/1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Прямоугольник 20"/>
            <p:cNvSpPr/>
            <p:nvPr/>
          </p:nvSpPr>
          <p:spPr>
            <a:xfrm>
              <a:off x="5257800" y="4489560"/>
              <a:ext cx="42908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онтакты: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" name="Прямоугольник 11"/>
          <p:cNvSpPr/>
          <p:nvPr/>
        </p:nvSpPr>
        <p:spPr>
          <a:xfrm>
            <a:off x="5018040" y="6400800"/>
            <a:ext cx="4781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ри использовании информации ссылка на РГП «Казгидромет» обязательна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оугольник 1"/>
          <p:cNvSpPr/>
          <p:nvPr/>
        </p:nvSpPr>
        <p:spPr>
          <a:xfrm>
            <a:off x="5114880" y="6165720"/>
            <a:ext cx="4521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л</a:t>
            </a:r>
            <a:r>
              <a:rPr b="1" i="1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)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Қабдуалиева М.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997520" y="528480"/>
          <a:ext cx="4703760" cy="816120"/>
        </p:xfrm>
        <a:graphic>
          <a:graphicData uri="http://schemas.openxmlformats.org/drawingml/2006/table">
            <a:tbl>
              <a:tblPr/>
              <a:tblGrid>
                <a:gridCol w="1035000"/>
                <a:gridCol w="3668760"/>
              </a:tblGrid>
              <a:tr h="1634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ритерий 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ределение уровня загряз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0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 &lt; 0,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нижен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0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22 ≤ Р &lt; 0,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вышен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0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29 ≤ Р &lt; 0,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со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0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 ≥ 0,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чень высо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Прямоугольник 30"/>
          <p:cNvSpPr/>
          <p:nvPr/>
        </p:nvSpPr>
        <p:spPr>
          <a:xfrm>
            <a:off x="4952880" y="1324080"/>
            <a:ext cx="4808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Расчет обобщённого показателя загрязнения воздуха по городу в целом и определение степени НМУ ведется согласно указаниям приведёнными в «Правилах предоставления информации о неблагоприятных метеорологических условиях, требований к составу и содержанию такой информации, порядка ее опубликования и предоставления заинтересованным лицам»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0" i="1" lang="kk-KZ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ации параметра «Р» для каждого города РК индивидуальны, расчитываются на основе данных многолетних данных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31"/>
          <p:cNvSpPr/>
          <p:nvPr/>
        </p:nvSpPr>
        <p:spPr>
          <a:xfrm>
            <a:off x="4952880" y="2106720"/>
            <a:ext cx="478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я предоставления предупреждений о НМУ различной степ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5016600" y="2382840"/>
          <a:ext cx="4680000" cy="2225520"/>
        </p:xfrm>
        <a:graphic>
          <a:graphicData uri="http://schemas.openxmlformats.org/drawingml/2006/table">
            <a:tbl>
              <a:tblPr/>
              <a:tblGrid>
                <a:gridCol w="861840"/>
                <a:gridCol w="3818160"/>
              </a:tblGrid>
              <a:tr h="137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пени НМ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ия предоставления предупрежде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степ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высокой степени, а также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сех или на подавляющей части постах выполняется условие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ПДКм.р&lt; СИ &lt; 3ПДКм.р. или СИ ≥ 3ПДКм.р.</a:t>
                      </a: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и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очень высокой степени, но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сех или на подавляющей части постах выполняется условие </a:t>
                      </a: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 &lt; 3ПДКм.р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степ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очень высокой степени, а также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сех или на подавляющей части постах выполняется условие СИ ≥ 3ПДКм.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4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степ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очень высокой степени,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чение двух суток подряд или более, а также всех или на подавляющей части постах выполняется условие СИ ≥ 5ПДКм.р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Box 33"/>
          <p:cNvSpPr/>
          <p:nvPr/>
        </p:nvSpPr>
        <p:spPr>
          <a:xfrm>
            <a:off x="4960800" y="4602240"/>
            <a:ext cx="480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</a:t>
            </a: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ущая и прогнозируемая синоптическая ситуация и комплекс неблагоприятных метеорологических условий, способствуют дальнейшему накоплению загрязняющих веществ в атмосфере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2"/>
          <p:cNvSpPr/>
          <p:nvPr/>
        </p:nvSpPr>
        <p:spPr>
          <a:xfrm>
            <a:off x="246240" y="203040"/>
            <a:ext cx="452880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ЕДОСТАВЛЕНИИ ПРЕДУПРЕЖДЕНИЙ 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МУ РАЗЛИЧНОЙ СТЕПЕНИ РЕКОМЕНДУЕТСЯ ПРИДЕРЖИВАТЬСЯ СЛЕДУЮЩИХ М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кратить время пребывания на открытом воздухе, особенно вблизи автотрасс или других источников загрязнения. Детям и беременным женщинам следует отказаться от длительных прогулок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людям, страдающим хроническими заболеваниями легких, сердечно-сосудистыми, аллергическими заболеваниями, при нахождении на открытом воздухе, необходимо иметь при себе необходимые лекарственные препараты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граничить физическую нагрузку на открытом воздухе. Занятие физкультурой и спортом проводить в закрытых спортивных комплекс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7T06:03:00Z</dcterms:created>
  <dc:creator>Ольга Корнюхова</dc:creator>
  <dc:description/>
  <dc:language>en-US</dc:language>
  <cp:lastModifiedBy>Moldir</cp:lastModifiedBy>
  <cp:lastPrinted>2022-11-09T06:48:13Z</cp:lastPrinted>
  <dcterms:modified xsi:type="dcterms:W3CDTF">2022-11-20T09:25:31Z</dcterms:modified>
  <cp:revision>251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1.2.0.9144</vt:lpwstr>
  </property>
</Properties>
</file>