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08E6-7379-4313-9595-1CE24C94E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04B6-84FA-4DE0-A6D4-7E3CF833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FA14-6DB4-4A0E-9932-A6EB8D60A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D7DD-DDF8-4ED5-9BE1-7524C7E3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4026-8700-4C29-BC86-BDD2DD23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DD24-2591-442A-9395-618DD4A5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F27D-58B4-41D0-935B-2FEA8154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CC3E-07BC-4B07-ABC3-A83EDCD4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E48F-F17E-4850-A9A5-11DF9CC4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C344-7CB5-4418-9313-784E5A4F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57C4-1FF2-4344-BEDA-AAE966A7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220B-FBCD-450B-9BDD-9DB6F6C0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D95E-FC6B-4563-BAA6-232EB3672D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4520" y="6392880"/>
          <a:ext cx="4465440" cy="347760"/>
        </p:xfrm>
        <a:graphic>
          <a:graphicData uri="http://schemas.openxmlformats.org/drawingml/2006/table">
            <a:tbl>
              <a:tblPr/>
              <a:tblGrid>
                <a:gridCol w="4465440"/>
              </a:tblGrid>
              <a:tr h="34776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тыра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7"/>
          <p:cNvSpPr/>
          <p:nvPr/>
        </p:nvSpPr>
        <p:spPr>
          <a:xfrm>
            <a:off x="128520" y="216000"/>
            <a:ext cx="48243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инистерство экологии, геологии и природных ресурсов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ГП «КАЗГИДРОМ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rcRect l="0" t="17821" r="0" b="17471"/>
          <a:stretch/>
        </p:blipFill>
        <p:spPr>
          <a:xfrm>
            <a:off x="1352520" y="1023840"/>
            <a:ext cx="2028960" cy="13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307800" y="2535120"/>
          <a:ext cx="4465800" cy="2179800"/>
        </p:xfrm>
        <a:graphic>
          <a:graphicData uri="http://schemas.openxmlformats.org/drawingml/2006/table">
            <a:tbl>
              <a:tblPr/>
              <a:tblGrid>
                <a:gridCol w="4465800"/>
              </a:tblGrid>
              <a:tr h="217980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ЖЕДНЕВНЫЙ БЮЛЛЕТЕНЬ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СТОЯНИЯ ВОЗДУШНОГО БАССЕЙНА </a:t>
                      </a:r>
                      <a:r>
                        <a:rPr b="1" i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№3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тыра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19 ноября </a:t>
                      </a:r>
                      <a:r>
                        <a:rPr b="1" i="1" lang="kk-KZ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022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Прямоугольник 2"/>
          <p:cNvSpPr/>
          <p:nvPr/>
        </p:nvSpPr>
        <p:spPr>
          <a:xfrm>
            <a:off x="4952880" y="112680"/>
            <a:ext cx="4824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погоды по г. Атыра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0 но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 ч. 19 ноября по 20 ч. 20 ноября 2022 г.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адки (преимущественно дождь). Ночью и утром туман. Ветер юго-восточный 1-6 м/с. Температура воздуха ночью 0-2, днем 6-8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1 но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 ч. 20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я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08 ч. 21 ноября 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садков. Туман. Ветер западный 5-10 м/с. Температура воздуха ночью 2-4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140440" y="6527880"/>
          <a:ext cx="4730760" cy="212760"/>
        </p:xfrm>
        <a:graphic>
          <a:graphicData uri="http://schemas.openxmlformats.org/drawingml/2006/table">
            <a:tbl>
              <a:tblPr/>
              <a:tblGrid>
                <a:gridCol w="4730760"/>
              </a:tblGrid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 согласно «Санитарно-эпидемиологическим правилам и нормам к атмосферному воздуху» от 28.02.2015г №1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Прямоугольник 21"/>
          <p:cNvSpPr/>
          <p:nvPr/>
        </p:nvSpPr>
        <p:spPr>
          <a:xfrm>
            <a:off x="4960800" y="3500280"/>
            <a:ext cx="48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атмосферного воздуха  г. Атыра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9 но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68800" y="4000680"/>
          <a:ext cx="4624560" cy="2527200"/>
        </p:xfrm>
        <a:graphic>
          <a:graphicData uri="http://schemas.openxmlformats.org/drawingml/2006/table">
            <a:tbl>
              <a:tblPr/>
              <a:tblGrid>
                <a:gridCol w="1812960"/>
                <a:gridCol w="1386000"/>
                <a:gridCol w="1425600"/>
              </a:tblGrid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язняющее веще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ция, мкг/м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ность превышения ПД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6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се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углер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азо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азо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TextBox 15"/>
          <p:cNvSpPr/>
          <p:nvPr/>
        </p:nvSpPr>
        <p:spPr>
          <a:xfrm>
            <a:off x="5024520" y="3143160"/>
            <a:ext cx="4681440" cy="27648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 1, 2, 3 степени НМУ отсут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5024520" y="2071800"/>
            <a:ext cx="4681440" cy="100656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ноября, ночью 21 ноября 2022 года метеорологические условия будут способствовать рассеиванию загрязняющих веществ в атмосфере го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ом по городу ожидается пониженный уровень загрязнения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59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61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76120" y="4587840"/>
            <a:ext cx="4660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Атырау наблюде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ровнем загрязнения атмосферного воздух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ится на 5 поста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 – микрорайон Самал, улица А.Кекильбаева, 15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5 – микрорайон Курсай, улица Карабау, строение 1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6 – микрорайон Жулдыз, улица №6, 29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8 - район Химпоселок, Сырдарья №3 (спец, школа для детей с нарушением реч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9 - микрайон Береке, район промзоны Бере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13"/>
          <p:cNvSpPr/>
          <p:nvPr/>
        </p:nvSpPr>
        <p:spPr>
          <a:xfrm>
            <a:off x="4923000" y="92160"/>
            <a:ext cx="48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 «Р» является обобщённым показателем загрязнения воздуха по городу в целом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Группа 24"/>
          <p:cNvGrpSpPr/>
          <p:nvPr/>
        </p:nvGrpSpPr>
        <p:grpSpPr>
          <a:xfrm>
            <a:off x="5257800" y="4489560"/>
            <a:ext cx="4290840" cy="1747800"/>
            <a:chOff x="5257800" y="4489560"/>
            <a:chExt cx="4290840" cy="1747800"/>
          </a:xfrm>
        </p:grpSpPr>
        <p:pic>
          <p:nvPicPr>
            <p:cNvPr id="60" name="Таблица 25" descr=""/>
            <p:cNvPicPr/>
            <p:nvPr/>
          </p:nvPicPr>
          <p:blipFill>
            <a:blip r:embed="rId1"/>
            <a:stretch/>
          </p:blipFill>
          <p:spPr>
            <a:xfrm>
              <a:off x="5260680" y="5434560"/>
              <a:ext cx="4041720" cy="80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Прямоугольник 8"/>
            <p:cNvSpPr/>
            <p:nvPr/>
          </p:nvSpPr>
          <p:spPr>
            <a:xfrm>
              <a:off x="5271480" y="4672800"/>
              <a:ext cx="21254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. Нур-Султан, ул. Мангилик ел 11/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Прямоугольник 20"/>
            <p:cNvSpPr/>
            <p:nvPr/>
          </p:nvSpPr>
          <p:spPr>
            <a:xfrm>
              <a:off x="5257800" y="4489560"/>
              <a:ext cx="4290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такты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Прямоугольник 11"/>
          <p:cNvSpPr/>
          <p:nvPr/>
        </p:nvSpPr>
        <p:spPr>
          <a:xfrm>
            <a:off x="5018040" y="6400800"/>
            <a:ext cx="478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 использовании информации ссылка на РГП «Казгидромет» обязательн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1"/>
          <p:cNvSpPr/>
          <p:nvPr/>
        </p:nvSpPr>
        <p:spPr>
          <a:xfrm>
            <a:off x="5114880" y="6165720"/>
            <a:ext cx="452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</a:t>
            </a: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) </a:t>
            </a:r>
            <a:r>
              <a:rPr b="1" i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бдуалиева М.С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997520" y="658800"/>
          <a:ext cx="4703760" cy="816120"/>
        </p:xfrm>
        <a:graphic>
          <a:graphicData uri="http://schemas.openxmlformats.org/drawingml/2006/table">
            <a:tbl>
              <a:tblPr/>
              <a:tblGrid>
                <a:gridCol w="1035000"/>
                <a:gridCol w="3668760"/>
              </a:tblGrid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ерий 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 уровня загряз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&lt; 0,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ниж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2 ≤ Р &lt; 0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ыш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9 ≤ Р &lt;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≥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чень высо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Прямоугольник 30"/>
          <p:cNvSpPr/>
          <p:nvPr/>
        </p:nvSpPr>
        <p:spPr>
          <a:xfrm>
            <a:off x="4952880" y="1324080"/>
            <a:ext cx="480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Расчет обобщённого показателя загрязнения воздуха по городу в целом и определение степени НМУ ведется согласно указаниям приведёнными в «Правилах предоставления информации о неблагоприятных метеорологических условиях, требований к составу и содержанию такой информации, порядка ее опубликования и предоставления заинтересованным лицам»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i="1" lang="kk-K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ции параметра «Р» для каждого города РК индивидуальны, расчитываются на основе данных многолетних данн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31"/>
          <p:cNvSpPr/>
          <p:nvPr/>
        </p:nvSpPr>
        <p:spPr>
          <a:xfrm>
            <a:off x="4952880" y="2106720"/>
            <a:ext cx="478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предоставления предупреждений о НМУ различной степ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016600" y="2382840"/>
          <a:ext cx="4680000" cy="2225520"/>
        </p:xfrm>
        <a:graphic>
          <a:graphicData uri="http://schemas.openxmlformats.org/drawingml/2006/table">
            <a:tbl>
              <a:tblPr/>
              <a:tblGrid>
                <a:gridCol w="861840"/>
                <a:gridCol w="3818160"/>
              </a:tblGrid>
              <a:tr h="13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и НМ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предоставления предупрежд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ПДКм.р&lt; СИ &lt; 3ПДКм.р. или СИ ≥ 3ПДКм.р.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но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 &lt; 3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СИ ≥ 3ПДКм.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двух суток подряд или более, а также всех или на подавляющей части постах выполняется условие СИ ≥ 5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Box 33"/>
          <p:cNvSpPr/>
          <p:nvPr/>
        </p:nvSpPr>
        <p:spPr>
          <a:xfrm>
            <a:off x="4960800" y="4602240"/>
            <a:ext cx="480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прогнозируемая синоптическая ситуация и комплекс неблагоприятных метеорологических условий, способствуют дальнейшему накоплению загрязняющих веществ в атмосфер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235080" y="249120"/>
            <a:ext cx="3981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ДЛЯ НАСЕЛЕНИЯ ПРИ Н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отсутству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06:03:00Z</dcterms:created>
  <dc:creator>Ольга Корнюхова</dc:creator>
  <dc:description/>
  <dc:language>en-US</dc:language>
  <cp:lastModifiedBy>Moldir</cp:lastModifiedBy>
  <cp:lastPrinted>2022-11-09T06:48:13Z</cp:lastPrinted>
  <dcterms:modified xsi:type="dcterms:W3CDTF">2022-11-19T08:55:29Z</dcterms:modified>
  <cp:revision>25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9144</vt:lpwstr>
  </property>
</Properties>
</file>