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9FEFA-AE8E-44C1-AEB7-ECF4C086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7340-0272-4DD6-924A-51E6FF7A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00733-AA15-4381-B5F0-1968E56E3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30ED1-7C4E-4FB9-BE0F-2135ED8E0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3021-3142-4F23-BF51-B089FBD0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416D5-E728-4B48-812B-CB2A8B897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4F37-078C-4717-845C-BA2979F9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34ADB-428F-4D53-8FC8-D0B061D5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66EF7-C75E-4A29-8762-6774EEDF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B31E-259B-48D0-B79C-F3E4594F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8D8E-6309-4203-9DA0-A93199DB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FF6F-0AE0-4070-8DED-D267020E7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8F64-DDB8-46DC-80AF-08D5D06B879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23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9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9 қараша сағ. 21-ден 20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түнде және таңертең жауын-шашын (көбінесе жаңбыр), тұман. Жел 2-7 м/с. Ауа температурасы түнде 2-4, күндіз 8-10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1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 қараша сағ. 21-ден 21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ей уақытта жаңбыр. Жел 3-8 м/с. Ауа температурасы 3-5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1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2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3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9 қараша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0 қараша </a:t>
            </a:r>
            <a:r>
              <a:rPr b="0" lang="ru-RU" sz="1200" spc="-1" strike="noStrike">
                <a:solidFill>
                  <a:srgbClr val="000000"/>
                </a:solidFill>
                <a:latin typeface="Times New Roman"/>
              </a:rPr>
              <a:t>тәулік бойы, 21 қараша түнде метеорологиялық жағдайлар қала атмосферасында ластаушы заттардың сейілуіне</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5070960" y="4557600"/>
            <a:ext cx="4484160" cy="1855800"/>
            <a:chOff x="5070960" y="4557600"/>
            <a:chExt cx="4484160" cy="1855800"/>
          </a:xfrm>
        </p:grpSpPr>
        <p:pic>
          <p:nvPicPr>
            <p:cNvPr id="59" name="Таблица 25" descr=""/>
            <p:cNvPicPr/>
            <p:nvPr/>
          </p:nvPicPr>
          <p:blipFill>
            <a:blip r:embed="rId1"/>
            <a:stretch/>
          </p:blipFill>
          <p:spPr>
            <a:xfrm>
              <a:off x="5260680" y="5571360"/>
              <a:ext cx="4041720" cy="842040"/>
            </a:xfrm>
            <a:prstGeom prst="rect">
              <a:avLst/>
            </a:prstGeom>
            <a:ln w="0">
              <a:noFill/>
            </a:ln>
          </p:spPr>
        </p:pic>
        <p:sp>
          <p:nvSpPr>
            <p:cNvPr id="60" name="Прямоугольник 8"/>
            <p:cNvSpPr/>
            <p:nvPr/>
          </p:nvSpPr>
          <p:spPr>
            <a:xfrm>
              <a:off x="5070960" y="483624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Times New Roman"/>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19T08:49:38Z</dcterms:modified>
  <cp:revision>283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