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9CF-191B-470D-9366-1E99C011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DBF-25C9-48D0-AB67-1C26B653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2BC-F06A-43BD-9361-527319C9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793-10C9-4B19-A319-25209B70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C81-87DC-4E29-B799-4A3C1CC2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7C2-17F2-49ED-B212-7D362352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BF4-073E-4426-84AF-D9FE5A19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BB4-9B62-4BF0-A9F0-4D1EB131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316-ADB0-4AEB-913B-A8454A1D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3D58-CB94-4872-B705-A893FAC6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23A-A8AC-4406-9850-73FBF8F6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F93-233D-471D-A055-6BAD750E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6C39-4B80-4069-A82A-37CD069402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19 но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5024520" y="371484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я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1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0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19 ноября 2022 г. до 21 ч. 20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ночью временами снег. Ветер северо-восточный, восточный 5-10 м/с. Температура воздуха ночью и днем 11-13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1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20 ноября 2022 г. до 09 ч. 21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юго-западный                        9-14 м/с. Температура воздуха  17-19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500200"/>
            <a:ext cx="4643280" cy="76356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 ночью 21 ноября метеорологические условия будут способствовать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еиванию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яющих веществ в атмосфере гор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20, ночью 21 ноября ожидается повышенный уровень загрязнения воздух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42900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6"/>
          <p:cNvSpPr/>
          <p:nvPr/>
        </p:nvSpPr>
        <p:spPr>
          <a:xfrm>
            <a:off x="142920" y="404172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8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=0,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-0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9-0,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=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49120" y="227160"/>
            <a:ext cx="458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отсутству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1-07-01T07:38:07Z</cp:lastPrinted>
  <dcterms:modified xsi:type="dcterms:W3CDTF">2022-11-19T08:52:44Z</dcterms:modified>
  <cp:revision>29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