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9DF42-D236-445C-915F-918B83FE0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E59E5-8873-4328-A20E-7C419511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5B6AE-F85B-4910-BC94-699631821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62B3D-7D40-4583-87A3-AD21A4C04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543AE-F486-468F-AA99-321753B78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D3C6B-9F75-46CA-90D9-8253BFE74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2922-73F4-4372-A351-D1478A8B0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4110-07C1-44F8-B397-8B97DAF35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A5FA3-8369-4C30-BCAC-2DE0BC0C8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C7095-5736-4034-BB12-930D848D0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C786-92AD-4729-BA6F-BEF2030BC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CAAE-1349-4BB3-B312-5420D7EA8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EDC1-C361-4CB5-AE3F-D1C0C233FBD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23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9</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ра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9</a:t>
            </a:r>
            <a:r>
              <a:rPr b="1" lang="ru-RU" sz="1200" spc="-1" strike="noStrike">
                <a:solidFill>
                  <a:srgbClr val="000000"/>
                </a:solidFill>
                <a:latin typeface="Times New Roman"/>
                <a:ea typeface="Times New Roman"/>
              </a:rPr>
              <a:t> қараша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19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20 сағаттан бастап 20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 (жаңбыр). Түнде және таңертең тұман. Оңтүстік-шығыстан жел соғады, күші 1-6 м/с. Ауа температурасы түнде 0-2,  күндіз 6-8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1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тан бастап 21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Тұман. Батыстан жел соғады, күші 5-10 м/с</a:t>
            </a:r>
            <a:r>
              <a:rPr b="0" lang="ru-RU" sz="1200" spc="-1" strike="noStrike">
                <a:solidFill>
                  <a:srgbClr val="000000"/>
                </a:solidFill>
                <a:latin typeface="Times New Roman"/>
                <a:ea typeface="Times New Roman"/>
              </a:rPr>
              <a:t>. Ауа температурасы түнде 2-4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0 қараша, 21 қараша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900" spc="-1" strike="noStrike">
                <a:solidFill>
                  <a:srgbClr val="000000"/>
                </a:solidFill>
                <a:latin typeface="Times New Roman"/>
                <a:ea typeface="Times New Roman"/>
              </a:rPr>
              <a:t>Қабдуалиева М.С.</a:t>
            </a:r>
            <a:endParaRPr b="0" lang="en-US" sz="9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8" name="TextBox 2"/>
          <p:cNvSpPr/>
          <p:nvPr/>
        </p:nvSpPr>
        <p:spPr>
          <a:xfrm>
            <a:off x="168120" y="230040"/>
            <a:ext cx="4530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ҚМЖ КЕЗІНДЕ ХАЛЫҚҚА АРНАЛҒАН ҰСЫНЫСТАР</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Ұсыныстар жоқ</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9T08:55:35Z</dcterms:modified>
  <cp:revision>250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