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8F7-A99F-41BB-843A-349DE1F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890-72E8-4D93-84A5-13557DD8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E13-B22F-4709-914D-86804E8C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FE2-9A5F-448C-BADC-67091A6D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A2C-A20C-4536-9220-1ED9489F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714-84BB-4C8B-949E-6B3109A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EAA-67ED-4152-BDE7-DA61215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C45-8883-4D08-A534-1A4AF8C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2F5-F1CE-4A21-8571-FC430448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C35-FD5B-4E52-9378-78F8DF6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00C-46AD-42F3-915D-9C704C8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85E-7194-44CD-8205-A25E5B0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785F-723A-4BA4-ADD6-D38EF2E8D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3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4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3 ноября по 20 ч. 14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и (преимущественно дождь). Ветер северо-западный 15-20 м/с. Температура воздуха ночью и днем 4-6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5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15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западный 9-14, порывы 15-20 м/с. Температура воздуха ночью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3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ноября, ночью 15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49320" y="237960"/>
            <a:ext cx="452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1-13T10:24:58Z</dcterms:modified>
  <cp:revision>250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