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620C3-D727-492C-825D-14B94E461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23135-0CEE-496F-BAB5-CDEEFFCA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5605F-D02B-43FA-881D-24BA93C04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5D5DE-C328-4697-8F83-671075D69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2383B-F074-49B8-93AE-514C0E26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CE153-754C-4DF2-8FFA-E5AAD71DE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2DAC-D5AF-4D17-8E4E-B1CF2539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D2DF-E808-4DED-BB81-E2050DEF9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3302-C9E7-4954-85F2-B577D3D38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C2B2-7FC0-4C07-ABFC-D41413ED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E74D-5A3B-41E1-81AF-5F9DD2A2E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530F-9263-4ED1-876C-94C5F146D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6B3C-A092-4FE0-9E04-A2DF51EF223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17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3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4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қараша сағ. 21-ден 14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0-2 градус аяз, күндіз 9-11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5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4 қараша сағ. 21-ден 15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0-2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86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3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2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3 қараша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4 қараша </a:t>
            </a:r>
            <a:r>
              <a:rPr b="0" lang="ru-RU" sz="1200" spc="-1" strike="noStrike">
                <a:solidFill>
                  <a:srgbClr val="000000"/>
                </a:solidFill>
                <a:latin typeface="Times New Roman"/>
              </a:rPr>
              <a:t>тәулік бойы, 15 қараша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көтеріңкі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106200" y="3254400"/>
            <a:ext cx="470880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855800"/>
            <a:chOff x="5070960" y="4557600"/>
            <a:chExt cx="4484160" cy="1855800"/>
          </a:xfrm>
        </p:grpSpPr>
        <p:pic>
          <p:nvPicPr>
            <p:cNvPr id="58" name="Таблица 25" descr=""/>
            <p:cNvPicPr/>
            <p:nvPr/>
          </p:nvPicPr>
          <p:blipFill>
            <a:blip r:embed="rId1"/>
            <a:stretch/>
          </p:blipFill>
          <p:spPr>
            <a:xfrm>
              <a:off x="5260680" y="5571360"/>
              <a:ext cx="4041720" cy="842040"/>
            </a:xfrm>
            <a:prstGeom prst="rect">
              <a:avLst/>
            </a:prstGeom>
            <a:ln w="0">
              <a:noFill/>
            </a:ln>
          </p:spPr>
        </p:pic>
        <p:sp>
          <p:nvSpPr>
            <p:cNvPr id="59" name="Прямоугольник 8"/>
            <p:cNvSpPr/>
            <p:nvPr/>
          </p:nvSpPr>
          <p:spPr>
            <a:xfrm>
              <a:off x="5070960" y="483624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8" name="TextBox 2"/>
          <p:cNvSpPr/>
          <p:nvPr/>
        </p:nvSpPr>
        <p:spPr>
          <a:xfrm>
            <a:off x="250920" y="312840"/>
            <a:ext cx="4613040" cy="210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3T10:20:11Z</dcterms:modified>
  <cp:revision>282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