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DBD-05C4-4A19-B89D-7A2D8092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900-8596-4156-95B3-3392D737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42F-E89A-4DAD-8BCE-A724742F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955-FF1F-4154-9393-4691A599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689-73C3-49C2-BA28-256EA006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C4B-C7EC-4A91-84AB-6589678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B5D-6B72-42A9-AF6F-16C5F5B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872-5E26-4932-A8B8-C29D2FD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692-B06A-4963-9C32-BA29AF1C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080-8610-4F85-BE0A-A853308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4D5-5AA2-4814-B2B7-93677AC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7F5-A820-4B30-BD6E-C0661B8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40F-6460-488E-ADAD-BFFC9B1AA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3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3 ноября 2022 г. до 21 ч. 1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ночью снег, днем осадки (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). Гололед, метель. Ветер юго-западный 15-20, порывы 25 м/с. Температура воздуха ночью 1-3 мороза, днем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4 ноября 2022 г. до 09 ч. 1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временами осадки (преимущественно снег), низовая метель, гололед. Ветер юго-западный 9-14, порывы 15-20 м/с. Температура воздуха ночью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71840"/>
            <a:ext cx="4714920" cy="76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112680" y="555480"/>
            <a:ext cx="48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оздуха не представляет опасности здоровью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13T10:21:50Z</dcterms:modified>
  <cp:revision>29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