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C7DAA-FE9C-485F-A496-EA2C5A31E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80C9E-475A-4EDA-82C5-00928F61E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77CEE-9BC4-416E-8AAB-3F8825A90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937B7-967E-4F1E-8647-F90369776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F00BD-CD3E-4D3F-8645-D2244579D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4BAD3-C718-4515-A0EF-E868B50BF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D7063-D8E7-4B36-903B-08ED2C0BC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4005E-B2F6-4D54-9F78-7E367F491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3E47-4A7E-4C8E-8B37-D6C5DE5EB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FFAC6-D99C-4AC6-96FE-39D3B9D8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7ABD7-0811-4932-882F-0F5E157A7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31EA3-41E6-43DD-A979-9A59885E0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8E53-3839-4469-B6C5-616E18D9107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16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2 қараша</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3 </a:t>
            </a:r>
            <a:r>
              <a:rPr b="1" lang="kk-KZ" sz="1200" spc="-1" strike="noStrike">
                <a:solidFill>
                  <a:srgbClr val="000000"/>
                </a:solidFill>
                <a:latin typeface="Times New Roman"/>
                <a:ea typeface="Times New Roman"/>
              </a:rPr>
              <a:t>қараша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2 қараша сағ. 21-ден 13 қараша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0-5 м/с. Ауа температурасы түнде 0-2 градус аяз, күндіз 7-9 градус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14 қара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3 қараша сағ. 21-ден 14 қараша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0-5 м/с. Ауа температурасы 0-2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71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2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5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2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3 қараша </a:t>
            </a:r>
            <a:r>
              <a:rPr b="0" lang="ru-RU" sz="1200" spc="-1" strike="noStrike">
                <a:solidFill>
                  <a:srgbClr val="000000"/>
                </a:solidFill>
                <a:latin typeface="Times New Roman"/>
              </a:rPr>
              <a:t>тәулік бойы, 14 қараша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Прямоугольник 26"/>
          <p:cNvSpPr/>
          <p:nvPr/>
        </p:nvSpPr>
        <p:spPr>
          <a:xfrm>
            <a:off x="81000" y="3286080"/>
            <a:ext cx="470844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6"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7" name="Группа 24"/>
          <p:cNvGrpSpPr/>
          <p:nvPr/>
        </p:nvGrpSpPr>
        <p:grpSpPr>
          <a:xfrm>
            <a:off x="5070960" y="4557600"/>
            <a:ext cx="4484160" cy="1855800"/>
            <a:chOff x="5070960" y="4557600"/>
            <a:chExt cx="4484160" cy="1855800"/>
          </a:xfrm>
        </p:grpSpPr>
        <p:pic>
          <p:nvPicPr>
            <p:cNvPr id="58" name="Таблица 25" descr=""/>
            <p:cNvPicPr/>
            <p:nvPr/>
          </p:nvPicPr>
          <p:blipFill>
            <a:blip r:embed="rId1"/>
            <a:stretch/>
          </p:blipFill>
          <p:spPr>
            <a:xfrm>
              <a:off x="5260680" y="5571360"/>
              <a:ext cx="4041720" cy="842040"/>
            </a:xfrm>
            <a:prstGeom prst="rect">
              <a:avLst/>
            </a:prstGeom>
            <a:ln w="0">
              <a:noFill/>
            </a:ln>
          </p:spPr>
        </p:pic>
        <p:sp>
          <p:nvSpPr>
            <p:cNvPr id="59" name="Прямоугольник 8"/>
            <p:cNvSpPr/>
            <p:nvPr/>
          </p:nvSpPr>
          <p:spPr>
            <a:xfrm>
              <a:off x="5070960" y="483624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2"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3"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5"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6"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8" name="TextBox 2"/>
          <p:cNvSpPr/>
          <p:nvPr/>
        </p:nvSpPr>
        <p:spPr>
          <a:xfrm>
            <a:off x="231840" y="339840"/>
            <a:ext cx="447048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ӘР ТҮРЛІ ДӘРЕЖЕЛІ НМУ ТУРАЛЫ ЕСКЕРТУЛЕР</a:t>
            </a:r>
            <a:br>
              <a:rPr sz="1200"/>
            </a:br>
            <a:r>
              <a:rPr b="1" lang="ru-RU" sz="1200" spc="-1" strike="noStrike">
                <a:solidFill>
                  <a:srgbClr val="000000"/>
                </a:solidFill>
                <a:latin typeface="Times New Roman"/>
                <a:ea typeface="Times New Roman"/>
              </a:rPr>
              <a:t> БЕРГЕН КЕЗДЕ КЕЛЕСІ ШАРАЛАРДЫ ҰСТАНУ </a:t>
            </a:r>
            <a:br>
              <a:rPr sz="1200"/>
            </a:br>
            <a:r>
              <a:rPr b="1" lang="ru-RU" sz="1200" spc="-1" strike="noStrike">
                <a:solidFill>
                  <a:srgbClr val="000000"/>
                </a:solidFill>
                <a:latin typeface="Times New Roman"/>
                <a:ea typeface="Times New Roman"/>
              </a:rPr>
              <a:t>ҰСЫНЫЛАДЫ</a:t>
            </a:r>
            <a:br>
              <a:rPr sz="1200"/>
            </a:b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12T08:50:52Z</dcterms:modified>
  <cp:revision>282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