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BF4-154B-48A7-BED9-62F8A53F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E05-0540-4622-9B3B-8A46729C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EAD-AC1A-46C5-A557-4225C423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BC6-6660-4902-852D-121D6C13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E4B-C01C-482C-B895-52FF2BF5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E28-0101-4B8D-BB99-DF7C42FA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469-44B9-4F33-B6C2-C425E013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D9A-C669-4534-9DD7-07974847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8F62-0527-46B0-B7E8-CE09D93C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E702-BF52-4881-8E04-6C601C25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30D-3933-40D9-A7E1-2D88D2E0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419F-2F8F-418D-A75D-33974F80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4C29-D27A-45FB-8945-E605F0C902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220824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208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31</a:t>
                      </a: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 но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75360" y="6543720"/>
          <a:ext cx="4730760" cy="31428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85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21"/>
          <p:cNvSpPr/>
          <p:nvPr/>
        </p:nvSpPr>
        <p:spPr>
          <a:xfrm>
            <a:off x="5024520" y="3714840"/>
            <a:ext cx="48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024520" y="115920"/>
            <a:ext cx="4714920" cy="23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2022 г. до 21 ч. 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чно, временами осадки (</a:t>
            </a: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), метель, гололед. Ветер юго-западный 15-20, порывы 25 м/с. Температура воздуха ночью и днем около 0 град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2022 г. до 09 ч. 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чно, временами осадки (дождь, снег), низовая метель, гололед. Ветер юго-западный 15-20, порывы 25 м/с. Температура воздуха ночью около 0 град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4520" y="4214880"/>
          <a:ext cx="4667040" cy="2252520"/>
        </p:xfrm>
        <a:graphic>
          <a:graphicData uri="http://schemas.openxmlformats.org/drawingml/2006/table">
            <a:tbl>
              <a:tblPr/>
              <a:tblGrid>
                <a:gridCol w="1795320"/>
                <a:gridCol w="1433520"/>
                <a:gridCol w="14382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 концентрация, мкг/м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Д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4"/>
          <p:cNvSpPr/>
          <p:nvPr/>
        </p:nvSpPr>
        <p:spPr>
          <a:xfrm>
            <a:off x="5024520" y="2571840"/>
            <a:ext cx="4714920" cy="763560"/>
          </a:xfrm>
          <a:prstGeom prst="rect">
            <a:avLst/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рологические условия будут способствовать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еиванию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агрязняющих веществ в атмосфере гор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загрязнения воздух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3429000"/>
            <a:ext cx="468000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317520" y="246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42920" y="404172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стана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10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ул. Жамбула,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2 – проспект Республики, 35 (школ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3 – Телжан Шонанұлы 47, район лесоза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4 – ул. Лепсы, 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.Туран , 2/1  центральная спасательная ст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л. Акжол, район отстойника сточных вод «Астана Тазалы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. Туркестан, 2/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ФМШ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–  ул. Бабатайулы, д. 24, Коктал-1, Сарыарк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–  ул. А. Байтурсынова, 25, Мечеть Х.Султан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0 – ул. К. Мунайтпасова, 13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4952880" y="6840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Группа 24"/>
          <p:cNvGrpSpPr/>
          <p:nvPr/>
        </p:nvGrpSpPr>
        <p:grpSpPr>
          <a:xfrm>
            <a:off x="5153040" y="4922280"/>
            <a:ext cx="4546440" cy="1408680"/>
            <a:chOff x="5153040" y="4922280"/>
            <a:chExt cx="4546440" cy="1408680"/>
          </a:xfrm>
        </p:grpSpPr>
        <p:pic>
          <p:nvPicPr>
            <p:cNvPr id="59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157000" y="5526000"/>
              <a:ext cx="40417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Прямоугольник 8"/>
            <p:cNvSpPr/>
            <p:nvPr/>
          </p:nvSpPr>
          <p:spPr>
            <a:xfrm>
              <a:off x="5197320" y="4922280"/>
              <a:ext cx="1873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Астана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оугольник 20"/>
            <p:cNvSpPr/>
            <p:nvPr/>
          </p:nvSpPr>
          <p:spPr>
            <a:xfrm>
              <a:off x="5153040" y="5087160"/>
              <a:ext cx="45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Прямоугольник 11"/>
          <p:cNvSpPr/>
          <p:nvPr/>
        </p:nvSpPr>
        <p:spPr>
          <a:xfrm>
            <a:off x="5043600" y="648648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5051520" y="6330960"/>
            <a:ext cx="452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4937040" y="1343160"/>
            <a:ext cx="48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18040" y="501480"/>
          <a:ext cx="4681440" cy="854280"/>
        </p:xfrm>
        <a:graphic>
          <a:graphicData uri="http://schemas.openxmlformats.org/drawingml/2006/table">
            <a:tbl>
              <a:tblPr/>
              <a:tblGrid>
                <a:gridCol w="1020960"/>
                <a:gridCol w="3660480"/>
              </a:tblGrid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ж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37 ≤ Р &lt;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оугольник 20"/>
          <p:cNvSpPr/>
          <p:nvPr/>
        </p:nvSpPr>
        <p:spPr>
          <a:xfrm>
            <a:off x="4952880" y="21002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19840" y="2430360"/>
          <a:ext cx="4679640" cy="2225880"/>
        </p:xfrm>
        <a:graphic>
          <a:graphicData uri="http://schemas.openxmlformats.org/drawingml/2006/table">
            <a:tbl>
              <a:tblPr/>
              <a:tblGrid>
                <a:gridCol w="861840"/>
                <a:gridCol w="381780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Прямоугольник 2"/>
          <p:cNvSpPr/>
          <p:nvPr/>
        </p:nvSpPr>
        <p:spPr>
          <a:xfrm>
            <a:off x="4970520" y="4627440"/>
            <a:ext cx="47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9"/>
          <p:cNvSpPr/>
          <p:nvPr/>
        </p:nvSpPr>
        <p:spPr>
          <a:xfrm>
            <a:off x="112680" y="555480"/>
            <a:ext cx="48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воздуха не представляет опасности здоровью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</cp:lastModifiedBy>
  <cp:lastPrinted>2021-07-01T07:38:07Z</cp:lastPrinted>
  <dcterms:modified xsi:type="dcterms:W3CDTF">2022-11-12T08:53:13Z</dcterms:modified>
  <cp:revision>290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