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867-C062-4ED3-B436-16272928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9EF-45BF-4835-8478-69A799C1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E42-D079-49EE-8643-CA206341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D5B-8DDE-4E33-955A-D6C6DF62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567-BB41-4A26-8127-5963E079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0A8-6683-40E2-938F-876EA0B0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207-AEC0-446B-A68C-96FEF08E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B81-BEC2-4D06-9FF0-150E80BF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29F-B0E2-4A9E-99E7-4A251BD8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F34-B15E-4167-A1E0-346F4703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2BF-541E-40BF-90D1-45AFD78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3DA-9412-45E5-8F37-718DB0C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2C1D-7CEA-4465-ABF9-A8692A9714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2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3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2 ноября по 20 ч. 13 но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м дождь. Ветер юго-западный, западный 9-14, порывы 15-20 м/с. Температура воздуха ночью 4-6, днем 8-10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4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08 ч. 14 но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. Ветер западный 9-14, порывы 15-20 м/с. Температура воздуха ночью 4-6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н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ноября, ночью 14 но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0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5114880" y="616572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04840" y="237960"/>
            <a:ext cx="462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2-11-09T06:48:13Z</cp:lastPrinted>
  <dcterms:modified xsi:type="dcterms:W3CDTF">2022-11-12T08:56:08Z</dcterms:modified>
  <cp:revision>25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