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1DAFE-9614-4E87-B356-86FF13114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76C4B-8527-4D78-A715-DDA04F6C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79AB6-8998-46DE-B79B-771165472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574B4-EBC6-4A68-A2E3-7F071DCA6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1CD99-4137-4C0F-8469-732B67C1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E5779-56D7-4BA8-B655-E6FEB6F0A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5FFD5-E746-4E76-90E1-447FD314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BA69-B451-4DBE-9A7E-A6F77A04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7BC8C-8EAE-403F-83F5-DAD528B49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E8CB-2170-4FEE-9BDA-CC90D3ED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BD3A-CF42-409B-8765-7DEF6B20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4C17-AB02-4970-8CDE-B9DB5C199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9010-BE6A-4911-8BE2-31F04635449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09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5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6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5 қараша сағ. 21-ден 06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2-7 м/с. Ауа температурасы түнде 4-6, күндіз 10-12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07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6 қараша сағ. 21-ден 07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2-7 м/с. Ауа температурасы 4-6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52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6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5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6 қараша </a:t>
            </a:r>
            <a:r>
              <a:rPr b="0" lang="ru-RU" sz="1200" spc="-1" strike="noStrike">
                <a:solidFill>
                  <a:srgbClr val="000000"/>
                </a:solidFill>
                <a:latin typeface="Times New Roman"/>
              </a:rPr>
              <a:t>тәулік бойы, 07 қараша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Прямоугольник 26"/>
          <p:cNvSpPr/>
          <p:nvPr/>
        </p:nvSpPr>
        <p:spPr>
          <a:xfrm>
            <a:off x="81000" y="323388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6"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7" name="Группа 24"/>
          <p:cNvGrpSpPr/>
          <p:nvPr/>
        </p:nvGrpSpPr>
        <p:grpSpPr>
          <a:xfrm>
            <a:off x="5070960" y="4557600"/>
            <a:ext cx="4484160" cy="1855800"/>
            <a:chOff x="5070960" y="4557600"/>
            <a:chExt cx="4484160" cy="1855800"/>
          </a:xfrm>
        </p:grpSpPr>
        <p:pic>
          <p:nvPicPr>
            <p:cNvPr id="58" name="Таблица 25" descr=""/>
            <p:cNvPicPr/>
            <p:nvPr/>
          </p:nvPicPr>
          <p:blipFill>
            <a:blip r:embed="rId1"/>
            <a:stretch/>
          </p:blipFill>
          <p:spPr>
            <a:xfrm>
              <a:off x="5260680" y="5571360"/>
              <a:ext cx="4041720" cy="842040"/>
            </a:xfrm>
            <a:prstGeom prst="rect">
              <a:avLst/>
            </a:prstGeom>
            <a:ln w="0">
              <a:noFill/>
            </a:ln>
          </p:spPr>
        </p:pic>
        <p:sp>
          <p:nvSpPr>
            <p:cNvPr id="59" name="Прямоугольник 8"/>
            <p:cNvSpPr/>
            <p:nvPr/>
          </p:nvSpPr>
          <p:spPr>
            <a:xfrm>
              <a:off x="5070960" y="483624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2"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3"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5"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6"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8" name="TextBox 2"/>
          <p:cNvSpPr/>
          <p:nvPr/>
        </p:nvSpPr>
        <p:spPr>
          <a:xfrm>
            <a:off x="209520" y="241200"/>
            <a:ext cx="439884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br>
              <a:rPr sz="1200"/>
            </a:b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1-05T08:53:02Z</dcterms:modified>
  <cp:revision>280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