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969-9F88-4419-B148-7EE51DA0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DFC-0F48-40FC-84F0-9FB264A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D55-E5A0-4411-98BC-6311B9A1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918-3B65-4411-ABA1-2A67692B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710-C34C-4470-ABE2-B3A74D19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E56-C5A2-403C-B886-6929D18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A31-BDB5-4E53-BB16-DBBA172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FFA-2B94-4B0B-92E1-C4DBA3E5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3EA-99EB-4214-BE96-E599D57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6ED-EFCC-47A0-9AF4-F8C987C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464-9973-4237-8E5B-615FF53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990-3C89-4613-AF1A-3E1ED79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6764-18E8-467F-96EE-AC6EE0ACE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5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6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5 ноября по 20 ч. 06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и утром осадки (дождь, снег), туман. Ветер северо-восточный ночью 0-5, днем 6-11м/с. Температура воздуха ночью 0-2, днем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7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07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ный 9-14 м/с. Температура воздуха ночью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5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ноября, ночью 07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75360" y="61578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71440" y="33012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МЖ КЕЗІНДЕ ХАЛЫҚҚА АРНАЛҒ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СЫНЫСТ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сыныстар жо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10-31T07:23:06Z</cp:lastPrinted>
  <dcterms:modified xsi:type="dcterms:W3CDTF">2022-11-05T08:59:31Z</dcterms:modified>
  <cp:revision>24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