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7BD7D-1C7C-4277-805A-5330DB69F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ECCF-4F78-4126-999D-FBF883FFC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03D61-A685-4A2B-8577-C365ACF28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08585-397F-425F-8FD9-C2230866D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51CA4-4470-4D2F-B84A-4613F511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73F1-44E4-4B88-A358-FB7E5465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2C15F-A5EC-4580-AF4A-ADE4F8721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96B2E-8400-4391-97C3-7443E8C8B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689C-673E-4866-A387-B8D02738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D46D-CF9A-4EA2-A6FC-0C101094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3E98-4A2C-40E5-852B-A33D723A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0C28-68A6-4DE8-8750-5F7B9EB47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298A-C5C8-42F1-80B4-3BC9336FA70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09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5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00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06</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05 қараша 2022 ж.</a:t>
            </a:r>
            <a:r>
              <a:rPr b="1" lang="ru-RU" sz="1100" spc="-1" strike="noStrike">
                <a:solidFill>
                  <a:srgbClr val="000000"/>
                </a:solidFill>
                <a:latin typeface="Times New Roman"/>
                <a:ea typeface="Times New Roman"/>
              </a:rPr>
              <a:t> сағ. 21-ден 06</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 Оңтүстік-батыстан, батыстан жел соғады, күші 7-12, кей уақыттарда екпіні 15 м/с. Ауаның температурасы түнде 3-5 градус аяз, күндіз  0 градус шамасында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07</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06 қараша </a:t>
            </a:r>
            <a:r>
              <a:rPr b="1" lang="ru-RU" sz="1100" spc="-1" strike="noStrike">
                <a:solidFill>
                  <a:srgbClr val="000000"/>
                </a:solidFill>
                <a:latin typeface="Times New Roman"/>
                <a:ea typeface="Times New Roman"/>
              </a:rPr>
              <a:t>сағ. 21-ден  07</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 Батыстан, солтүстік-батыстан жел соғады, күші 2-7 м/с. Ауаның температурасы  3-5 градус аяз болады.</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5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75280" y="3436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сейілуіне</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122400" y="801720"/>
            <a:ext cx="4830480" cy="28908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Calibri"/>
              </a:rPr>
              <a:t>Ауа сапасы халықтың денсаулығына қауіп төндірмейді</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1-05T08:55:42Z</dcterms:modified>
  <cp:revision>29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