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3D0-10E7-4AD7-8BE6-C76F610F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345-3BA5-4F6F-A0B2-23C8EC54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396-9BC4-41DA-A895-276AA1AD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33C-241D-4AF5-8A81-4DEED305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567-E9A5-4E7E-A184-939C7935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0F4-3A73-4ADF-8778-395F75E2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E01-4AE8-4D86-88CC-B9C45862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EE5-9002-4FEB-9F35-6396DB42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D88-3B28-4A51-87FA-ACBE2D27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181-71A9-4E48-A7D5-3583E3B4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CF9-1547-4C5B-A4EE-6AA4F96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43D-8B0D-4E06-A05C-BF88ECBA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FCC7-A5D4-403D-BF37-23A7165F0A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05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6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05 ноября 2022 г. до 21 ч. 06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юго-западный, западный 7-12, временами порывы 15 м/с. Температура воздуха ночью 3-5 мороза, днем около 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7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06 ноября 2022 г. до 09 ч. 07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западный, северо-западный 2-7 м/с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пература воздуха  3-5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500200"/>
            <a:ext cx="4714920" cy="76356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иванию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112680" y="555480"/>
            <a:ext cx="48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воздуха не представляет опасности здоровью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1-07-01T07:38:07Z</cp:lastPrinted>
  <dcterms:modified xsi:type="dcterms:W3CDTF">2022-11-05T08:55:35Z</dcterms:modified>
  <cp:revision>288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