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0B9-13A6-45C5-9FF1-DEFCD155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D64-0063-4127-8D0C-5600ACFC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FE0-DADF-45D0-9BA3-23D6DC94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468-DF79-4A62-9B02-AF1266A5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D41-57D9-416F-8156-D8730820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D725-1C53-49EA-9C05-C6033C86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E68-79AA-4CD0-A24E-9DC5583B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C30-0631-4DA4-AF77-359662C6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628-146F-48B8-8F16-407B1728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F06-7219-45C8-95C5-6018B725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BFA-DCEF-4E92-BC07-B0A75555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90E-98BB-49EB-B159-7349C548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ABF3-BE70-466F-A013-E42ABFCA6B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30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1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30 октября по 20 ч. 31 окт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. Ветер юго-западный 9-14, порывы 15-20 м/с. Температура воздуха ночью 5-7, днем 11-13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1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31 октября по 08 ч. 01 но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. Ветер северо-западный 9-14, порывы 15-20 м/с. Температура воздуха ночью 0-2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0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октября, ночью 01 ноя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1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5141880" y="615960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37960" y="576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отсутству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2-06-26T09:30:29Z</cp:lastPrinted>
  <dcterms:modified xsi:type="dcterms:W3CDTF">2022-10-30T09:14:51Z</dcterms:modified>
  <cp:revision>248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