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80682-CA88-4A0D-97C5-B7C52BE87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7EFEB-1932-4563-9EE3-546BB70A0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B9978-1834-4B51-96EF-98EF5C65B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80AFB-5CC5-4B4D-893D-B67007A78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97296-5B24-4ED4-B9B9-C9736AAFF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C63A4-B1AF-480D-AE08-2C5C8B861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88EB2-BF0B-4BC6-BB25-CBDB6D1A8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03583-C1D1-4A29-8C1B-F629C8E97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B54F2-C30A-48EF-BE56-EA550AF8C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F827A-10CA-4F91-A601-5232E64E7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A66CE-8B5E-428C-938D-9A42702DC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B64AD-6EB8-4795-9C47-D72399334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9724-CF45-47DC-9EB8-CD293B9E4C4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03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30 қазан</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1 </a:t>
            </a:r>
            <a:r>
              <a:rPr b="1" lang="kk-KZ" sz="1200" spc="-1" strike="noStrike">
                <a:solidFill>
                  <a:srgbClr val="000000"/>
                </a:solidFill>
                <a:latin typeface="Times New Roman"/>
                <a:ea typeface="Times New Roman"/>
              </a:rPr>
              <a:t>қазан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0 қазан сағ. 21-ден 31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түнде және таңертең жаңбыр. Жел 2-7 м/с. Ауа температурасы түнде 4-6, күндіз 9-11 жылы</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01 қара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1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ден 01 қараша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жауын-шашынсыз. Жел 3-8 м/с. Ауа температурасы 3-5 жылы</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65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66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21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3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54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30 қазан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31 </a:t>
            </a:r>
            <a:r>
              <a:rPr b="0" lang="kk-KZ" sz="1200" spc="-1" strike="noStrike">
                <a:solidFill>
                  <a:srgbClr val="000000"/>
                </a:solidFill>
                <a:latin typeface="Times New Roman"/>
                <a:ea typeface="Times New Roman"/>
              </a:rPr>
              <a:t>қазан</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rPr>
              <a:t>тәулік бойы, 1 қараша түнде метеорологиялық жағдайлар қала атмосферасында ластаушы заттардың сейілуіне</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Times New Roman"/>
            </a:endParaRPr>
          </a:p>
        </p:txBody>
      </p:sp>
      <p:sp>
        <p:nvSpPr>
          <p:cNvPr id="56" name="Прямоугольник 26"/>
          <p:cNvSpPr/>
          <p:nvPr/>
        </p:nvSpPr>
        <p:spPr>
          <a:xfrm>
            <a:off x="163440" y="2050920"/>
            <a:ext cx="4708440" cy="465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Қазақ ұлттық университеті айм.Әл-Фараби Атындағы Қазұу;</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 Боралдай Автошаруашылығы, Аэродромная көшесі</a:t>
            </a:r>
            <a:r>
              <a:rPr b="0" lang="ru-RU"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 «Алматы арена» мұз айды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 70 разъезд, №32 жалпы білім беретін мектеп;</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a:t>
            </a:r>
            <a:r>
              <a:rPr b="0" lang="ru-RU" sz="1200" spc="-1" strike="noStrike">
                <a:solidFill>
                  <a:srgbClr val="000000"/>
                </a:solidFill>
                <a:latin typeface="Times New Roman"/>
                <a:ea typeface="Times New Roman"/>
              </a:rPr>
              <a:t>«Халық арена» Мұз аренасы, «Думан» шағын ауда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7 бекет – </a:t>
            </a:r>
            <a:r>
              <a:rPr b="0" lang="ru-RU" sz="1200" spc="-1" strike="noStrike">
                <a:solidFill>
                  <a:srgbClr val="000000"/>
                </a:solidFill>
                <a:latin typeface="Times New Roman"/>
                <a:ea typeface="Times New Roman"/>
              </a:rPr>
              <a:t>Әйгерім 2 шағын ауданы, В. Бенберин көшесі, 6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8 бекет – </a:t>
            </a:r>
            <a:r>
              <a:rPr b="0" lang="ru-RU" sz="1200" spc="-1" strike="noStrike">
                <a:solidFill>
                  <a:srgbClr val="000000"/>
                </a:solidFill>
                <a:latin typeface="Times New Roman"/>
              </a:rPr>
              <a:t>аэрологиялық станция (әуежай ауданы)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хметов к-сі, 50</a:t>
            </a:r>
            <a:r>
              <a:rPr b="0" lang="kk-KZ" sz="1200" spc="-1" strike="noStrike">
                <a:solidFill>
                  <a:srgbClr val="000000"/>
                </a:solidFill>
                <a:latin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9 бекет – Түрксіб ауданының АІІБ, Р. Зорге көшесі, 14;</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0 бекет – «Шаңырақ» шағынауданы, №26 мектеп, Жанқожа батыр көшесі, 202;</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6 бекет – Айнабұлақ-3 ш.а.;</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6 бекет – Тастақ-1 ш. а., Төле би к-сі, 249, «№8 қалалық балалар емханасы» ММ</a:t>
            </a:r>
            <a:endParaRPr b="0" lang="en-US" sz="1200" spc="-1" strike="noStrike">
              <a:solidFill>
                <a:srgbClr val="000000"/>
              </a:solidFill>
              <a:latin typeface="Times New Roman"/>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8" name="Группа 24"/>
          <p:cNvGrpSpPr/>
          <p:nvPr/>
        </p:nvGrpSpPr>
        <p:grpSpPr>
          <a:xfrm>
            <a:off x="4937760" y="4557600"/>
            <a:ext cx="4617360" cy="1779840"/>
            <a:chOff x="4937760" y="4557600"/>
            <a:chExt cx="46173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4937760" y="4805280"/>
              <a:ext cx="279144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Прямоугольник 20"/>
            <p:cNvSpPr/>
            <p:nvPr/>
          </p:nvSpPr>
          <p:spPr>
            <a:xfrm>
              <a:off x="5264640" y="45576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Қабдуалиева М.С.</a:t>
            </a:r>
            <a:endParaRPr b="0" lang="en-US" sz="1200" spc="-1" strike="noStrike">
              <a:solidFill>
                <a:srgbClr val="000000"/>
              </a:solidFill>
              <a:latin typeface="Times New Roman"/>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95280" y="792000"/>
            <a:ext cx="139536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Times New Roman"/>
              </a:rPr>
              <a:t>Ұсыныстар жоқ</a:t>
            </a:r>
            <a:endParaRPr b="0" lang="en-US" sz="1400" spc="-1" strike="noStrike">
              <a:solidFill>
                <a:srgbClr val="000000"/>
              </a:solidFill>
              <a:latin typeface="Times New Roman"/>
            </a:endParaRPr>
          </a:p>
        </p:txBody>
      </p:sp>
      <p:sp>
        <p:nvSpPr>
          <p:cNvPr id="66"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7"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8"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30T08:30:06Z</dcterms:modified>
  <cp:revision>279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