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80A8-2D84-4E61-9A21-202E041A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A915-69DB-4B20-88A8-ACA83210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5F8F-EE3F-45CF-AA4C-5A2036DD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8B8B-B8B1-4241-9454-60C7A5B0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615F-38A4-4307-B16D-515705DE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FFAC-1C29-4AB3-A547-4D5472E2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227E-18C8-4B0F-9BF3-79DBD685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4E4B-D23C-4599-85BF-72206BC6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E73B-FAA8-434B-80C4-EFC55DEC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72ED-2C8E-4DF2-A671-D7C8B2B7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8458-DF64-4735-B700-F75CD9A7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15B9-85E3-49E5-9259-4DBFA950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41EE-9F07-46B3-9ACF-59D5D96EFC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89120"/>
          <a:ext cx="4465800" cy="220824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20824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3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30 окт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175360" y="6543720"/>
          <a:ext cx="4730760" cy="31428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85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Прямоугольник 21"/>
          <p:cNvSpPr/>
          <p:nvPr/>
        </p:nvSpPr>
        <p:spPr>
          <a:xfrm>
            <a:off x="5024520" y="3714840"/>
            <a:ext cx="48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октября 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5024520" y="115920"/>
            <a:ext cx="471492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31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30 октября 2022 г. до 21 ч. 31 октября 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ая облачность, временами осадки (дождь, снег), гололед. Ветер юго-западный, южный 9-14 м/с. Температура воздуха ночью 0-2 мороза, днем 3-5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01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31 октября 2022 г. до 09 ч. 01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ая облачность, без осадков. Ветер южный 7-12 м/с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Температура воздуха 0-2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24520" y="4214880"/>
          <a:ext cx="4667040" cy="2252520"/>
        </p:xfrm>
        <a:graphic>
          <a:graphicData uri="http://schemas.openxmlformats.org/drawingml/2006/table">
            <a:tbl>
              <a:tblPr/>
              <a:tblGrid>
                <a:gridCol w="1795320"/>
                <a:gridCol w="1433520"/>
                <a:gridCol w="1438200"/>
              </a:tblGrid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 концентрация, мкг/м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Д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4"/>
          <p:cNvSpPr/>
          <p:nvPr/>
        </p:nvSpPr>
        <p:spPr>
          <a:xfrm>
            <a:off x="5024520" y="2500200"/>
            <a:ext cx="4714920" cy="763560"/>
          </a:xfrm>
          <a:prstGeom prst="rect">
            <a:avLst/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еорологические условия будут способствовать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еиванию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загрязняющих веществ в атмосфере город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ожидается пониженный уровень загрязнения воздух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3429000"/>
            <a:ext cx="468000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1, 2, 3 степени НМУ отсут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317520" y="246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ДЛЯ НАСЕЛЕНИЯ ПРИ Н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42920" y="4041720"/>
            <a:ext cx="48085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стана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10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ул. Жамбула,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2 – проспект Республики, 35 (школ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3 – Телжан Шонанұлы 47, район лесоза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4 – ул. Лепсы, 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.Туран , 2/1  центральная спасательная ста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л. Акжол, район отстойника сточных вод «Астана Тазалы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л. Туркестан, 2/1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ФМШ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–  ул. Бабатайулы, д. 24, Коктал-1, Сарыарк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–  ул. А. Байтурсынова, 25, Мечеть Х.Султан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0 – ул. К. Мунайтпасова, 13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13"/>
          <p:cNvSpPr/>
          <p:nvPr/>
        </p:nvSpPr>
        <p:spPr>
          <a:xfrm>
            <a:off x="4952880" y="68400"/>
            <a:ext cx="48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Группа 24"/>
          <p:cNvGrpSpPr/>
          <p:nvPr/>
        </p:nvGrpSpPr>
        <p:grpSpPr>
          <a:xfrm>
            <a:off x="5153040" y="4922280"/>
            <a:ext cx="4546440" cy="1408680"/>
            <a:chOff x="5153040" y="4922280"/>
            <a:chExt cx="4546440" cy="1408680"/>
          </a:xfrm>
        </p:grpSpPr>
        <p:pic>
          <p:nvPicPr>
            <p:cNvPr id="59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157000" y="5526000"/>
              <a:ext cx="40417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Прямоугольник 8"/>
            <p:cNvSpPr/>
            <p:nvPr/>
          </p:nvSpPr>
          <p:spPr>
            <a:xfrm>
              <a:off x="5197320" y="4922280"/>
              <a:ext cx="18738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Астана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Прямоугольник 20"/>
            <p:cNvSpPr/>
            <p:nvPr/>
          </p:nvSpPr>
          <p:spPr>
            <a:xfrm>
              <a:off x="5153040" y="5087160"/>
              <a:ext cx="454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Прямоугольник 11"/>
          <p:cNvSpPr/>
          <p:nvPr/>
        </p:nvSpPr>
        <p:spPr>
          <a:xfrm>
            <a:off x="5043600" y="648648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5051520" y="6330960"/>
            <a:ext cx="452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kk-K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бдуалиева М.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9"/>
          <p:cNvSpPr/>
          <p:nvPr/>
        </p:nvSpPr>
        <p:spPr>
          <a:xfrm>
            <a:off x="4937040" y="1343160"/>
            <a:ext cx="484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018040" y="501480"/>
          <a:ext cx="4681440" cy="854280"/>
        </p:xfrm>
        <a:graphic>
          <a:graphicData uri="http://schemas.openxmlformats.org/drawingml/2006/table">
            <a:tbl>
              <a:tblPr/>
              <a:tblGrid>
                <a:gridCol w="1020960"/>
                <a:gridCol w="3660480"/>
              </a:tblGrid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иж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7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ыш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37 ≤ Р &lt; 0,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Прямоугольник 20"/>
          <p:cNvSpPr/>
          <p:nvPr/>
        </p:nvSpPr>
        <p:spPr>
          <a:xfrm>
            <a:off x="4952880" y="21002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019840" y="2430360"/>
          <a:ext cx="4679640" cy="2225880"/>
        </p:xfrm>
        <a:graphic>
          <a:graphicData uri="http://schemas.openxmlformats.org/drawingml/2006/table">
            <a:tbl>
              <a:tblPr/>
              <a:tblGrid>
                <a:gridCol w="861840"/>
                <a:gridCol w="381780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Прямоугольник 2"/>
          <p:cNvSpPr/>
          <p:nvPr/>
        </p:nvSpPr>
        <p:spPr>
          <a:xfrm>
            <a:off x="4970520" y="4627440"/>
            <a:ext cx="47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317520" y="7048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отсутствую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 Kabdualieva</cp:lastModifiedBy>
  <cp:lastPrinted>2021-07-01T07:38:07Z</cp:lastPrinted>
  <dcterms:modified xsi:type="dcterms:W3CDTF">2022-10-30T08:38:56Z</dcterms:modified>
  <cp:revision>286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