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D0E34-5EE6-4361-8F21-EBC87F799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763D9-7249-42E5-A880-427F26700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E0294-3167-4F87-B3E6-5C7B8EBE5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0DF8B-370F-4CA6-BCEB-5008D04E6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525D3-D88B-45E9-983C-CA47BC9CE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1BBD3-A72C-4AD6-9DFB-AAC4A6D36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0B9BB-A09F-40A7-B62E-048C03770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19A8C-35CD-441A-AC40-48438CE5C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EBDAF-E8BC-4CA2-9E3D-3036EA934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54D5-BF20-4904-BFE5-6673281AC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71B8-0D00-4E42-84A2-B317A2865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F0FD4-A812-437C-99AA-64B5D10C4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7D82-2C9F-4030-A45E-8AE0FA728D9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02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9 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0 </a:t>
            </a:r>
            <a:r>
              <a:rPr b="1" lang="kk-KZ" sz="1200" spc="-1" strike="noStrike">
                <a:solidFill>
                  <a:srgbClr val="000000"/>
                </a:solidFill>
                <a:latin typeface="Times New Roman"/>
                <a:ea typeface="Times New Roman"/>
              </a:rPr>
              <a:t>қаз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9 қазан сағ. 21-ден 30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күннің екінші жартысында жаңбыр. Жел 3-8 м/с. Ауа температурасы түнде 4-6, күндіз 13-15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31 қаз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0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31 қазан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кей уақытта жаңбыр. Жел 3-8 м/с. Ауа температурасы 3-5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5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5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70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1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1</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7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9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30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31 қазан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69840" y="3309840"/>
            <a:ext cx="470844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33800" y="1357200"/>
            <a:ext cx="47656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6"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7"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9" name="TextBox 2"/>
          <p:cNvSpPr/>
          <p:nvPr/>
        </p:nvSpPr>
        <p:spPr>
          <a:xfrm>
            <a:off x="239760" y="787320"/>
            <a:ext cx="4538520" cy="173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9T09:24:03Z</dcterms:modified>
  <cp:revision>279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