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A37F-2AB5-4DAA-A3F9-C51B36D84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306C-46D9-4342-BABC-D36DAACA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8F76-1A04-4105-B22E-7A218F3FB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7D8F-7B55-4A9A-B831-4DD9612E9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16B1-DFA8-4429-829D-7F359B85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5113-886D-4940-9369-EE3F6816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A1CA-E0D8-4EE5-9D35-7A575423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ABFB-D1D4-4160-B32E-E8EC3E78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2880-8504-4D10-ABE4-10760A42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BC1C-12F4-458E-AC40-C1C5D913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D8B4-B65B-45EE-9AA2-08E5C652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847E-BF25-4FC9-95D7-4EED23AB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D804-95A0-4D66-8160-B835299D61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4520" y="6392880"/>
          <a:ext cx="4465440" cy="347760"/>
        </p:xfrm>
        <a:graphic>
          <a:graphicData uri="http://schemas.openxmlformats.org/drawingml/2006/table">
            <a:tbl>
              <a:tblPr/>
              <a:tblGrid>
                <a:gridCol w="4465440"/>
              </a:tblGrid>
              <a:tr h="34776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i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тыра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Box 7"/>
          <p:cNvSpPr/>
          <p:nvPr/>
        </p:nvSpPr>
        <p:spPr>
          <a:xfrm>
            <a:off x="128520" y="216000"/>
            <a:ext cx="482436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инистерство экологии, геологии и природных ресурсов Республики Казахст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ГП «КАЗГИДРОМЕ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1" descr=""/>
          <p:cNvPicPr/>
          <p:nvPr/>
        </p:nvPicPr>
        <p:blipFill>
          <a:blip r:embed="rId1"/>
          <a:srcRect l="0" t="17821" r="0" b="17471"/>
          <a:stretch/>
        </p:blipFill>
        <p:spPr>
          <a:xfrm>
            <a:off x="1352520" y="1023840"/>
            <a:ext cx="2028960" cy="13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307800" y="2535120"/>
          <a:ext cx="4465800" cy="2179800"/>
        </p:xfrm>
        <a:graphic>
          <a:graphicData uri="http://schemas.openxmlformats.org/drawingml/2006/table">
            <a:tbl>
              <a:tblPr/>
              <a:tblGrid>
                <a:gridCol w="4465800"/>
              </a:tblGrid>
              <a:tr h="217980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ЕЖЕДНЕВНЫЙ БЮЛЛЕТЕНЬ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СТОЯНИЯ ВОЗДУШНОГО БАССЕЙНА </a:t>
                      </a:r>
                      <a:r>
                        <a:rPr b="1" i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№3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i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тыра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29 октября </a:t>
                      </a:r>
                      <a:r>
                        <a:rPr b="1" i="1" lang="kk-KZ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2022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Прямоугольник 2"/>
          <p:cNvSpPr/>
          <p:nvPr/>
        </p:nvSpPr>
        <p:spPr>
          <a:xfrm>
            <a:off x="4952880" y="112680"/>
            <a:ext cx="48243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погоды по г. Атыра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30 окт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0 ч. 29 октября по 20 ч. 30 октября 2022 г.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садков. Ночью и утром туман. Ветер северный с переходом на юго-западный 9-14 м/с. Температура воздуха ночью 0-2, днем 7-9 теп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31 окт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0 ч. 29 октября по 08 ч. 30 октября 202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ждь. Ветер северо-западный 9-14, порывы 15-20 м/с. Температура воздуха ночью 4-6 теп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140440" y="6527880"/>
          <a:ext cx="4730760" cy="212760"/>
        </p:xfrm>
        <a:graphic>
          <a:graphicData uri="http://schemas.openxmlformats.org/drawingml/2006/table">
            <a:tbl>
              <a:tblPr/>
              <a:tblGrid>
                <a:gridCol w="4730760"/>
              </a:tblGrid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К согласно «Санитарно-эпидемиологическим правилам и нормам к атмосферному воздуху» от 28.02.2015г №16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Прямоугольник 21"/>
          <p:cNvSpPr/>
          <p:nvPr/>
        </p:nvSpPr>
        <p:spPr>
          <a:xfrm>
            <a:off x="4960800" y="3500280"/>
            <a:ext cx="48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атмосферного воздуха  г. Атыра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29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тябр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068800" y="4000680"/>
          <a:ext cx="4624560" cy="2527200"/>
        </p:xfrm>
        <a:graphic>
          <a:graphicData uri="http://schemas.openxmlformats.org/drawingml/2006/table">
            <a:tbl>
              <a:tblPr/>
              <a:tblGrid>
                <a:gridCol w="1812960"/>
                <a:gridCol w="1386000"/>
                <a:gridCol w="1425600"/>
              </a:tblGrid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рязняющее вещест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нтрация, мкг/м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ность превышения ПД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6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се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углер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азо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азо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оводор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миа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TextBox 15"/>
          <p:cNvSpPr/>
          <p:nvPr/>
        </p:nvSpPr>
        <p:spPr>
          <a:xfrm>
            <a:off x="5024520" y="3143160"/>
            <a:ext cx="4681440" cy="27648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 1, 2, 3 степени НМУ отсутств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5024520" y="2071800"/>
            <a:ext cx="4681440" cy="100656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октября, ночью 31 октября 2022 года метеорологические условия будут способствовать рассеиванию загрязняющих веществ в атмосфере гор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ом по городу ожидается пониженный уровень загрязнения возду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59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61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5"/>
          <p:cNvSpPr/>
          <p:nvPr/>
        </p:nvSpPr>
        <p:spPr>
          <a:xfrm>
            <a:off x="317520" y="246240"/>
            <a:ext cx="46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ДЛЯ НАСЕЛЕНИЯ ПРИ НМ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26"/>
          <p:cNvSpPr/>
          <p:nvPr/>
        </p:nvSpPr>
        <p:spPr>
          <a:xfrm>
            <a:off x="276120" y="4587840"/>
            <a:ext cx="4660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оде Атырау наблюде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уровнем загрязнения атмосферного воздух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ится на 5 поста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1 – микрорайон Самал, улица А.Кекильбаева, 15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5 – микрорайон Курсай, улица Карабау, строение 12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6 – микрорайон Жулдыз, улица №6, 29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8 - район Химпоселок, Сырдарья №3 (спец, школа для детей с нарушением реч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9 - микрайон Береке, район промзоны Бере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13"/>
          <p:cNvSpPr/>
          <p:nvPr/>
        </p:nvSpPr>
        <p:spPr>
          <a:xfrm>
            <a:off x="4923000" y="92160"/>
            <a:ext cx="485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 «Р» является обобщённым показателем загрязнения воздуха по городу в целом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Группа 24"/>
          <p:cNvGrpSpPr/>
          <p:nvPr/>
        </p:nvGrpSpPr>
        <p:grpSpPr>
          <a:xfrm>
            <a:off x="5257800" y="4489560"/>
            <a:ext cx="4290840" cy="1747800"/>
            <a:chOff x="5257800" y="4489560"/>
            <a:chExt cx="4290840" cy="1747800"/>
          </a:xfrm>
        </p:grpSpPr>
        <p:pic>
          <p:nvPicPr>
            <p:cNvPr id="61" name="Таблица 25" descr=""/>
            <p:cNvPicPr/>
            <p:nvPr/>
          </p:nvPicPr>
          <p:blipFill>
            <a:blip r:embed="rId1"/>
            <a:stretch/>
          </p:blipFill>
          <p:spPr>
            <a:xfrm>
              <a:off x="5260680" y="5434560"/>
              <a:ext cx="4041720" cy="80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Прямоугольник 8"/>
            <p:cNvSpPr/>
            <p:nvPr/>
          </p:nvSpPr>
          <p:spPr>
            <a:xfrm>
              <a:off x="5271480" y="4672800"/>
              <a:ext cx="21254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. Нур-Султан, ул. Мангилик ел 11/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Прямоугольник 20"/>
            <p:cNvSpPr/>
            <p:nvPr/>
          </p:nvSpPr>
          <p:spPr>
            <a:xfrm>
              <a:off x="5257800" y="4489560"/>
              <a:ext cx="4290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такты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" name="Прямоугольник 11"/>
          <p:cNvSpPr/>
          <p:nvPr/>
        </p:nvSpPr>
        <p:spPr>
          <a:xfrm>
            <a:off x="5018040" y="6400800"/>
            <a:ext cx="478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и использовании информации ссылка на РГП «Казгидромет» обязательна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1"/>
          <p:cNvSpPr/>
          <p:nvPr/>
        </p:nvSpPr>
        <p:spPr>
          <a:xfrm>
            <a:off x="5141880" y="6159600"/>
            <a:ext cx="4521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</a:t>
            </a:r>
            <a:r>
              <a:rPr b="1" i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)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абдуалиева М.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997520" y="528480"/>
          <a:ext cx="4703760" cy="816120"/>
        </p:xfrm>
        <a:graphic>
          <a:graphicData uri="http://schemas.openxmlformats.org/drawingml/2006/table">
            <a:tbl>
              <a:tblPr/>
              <a:tblGrid>
                <a:gridCol w="1035000"/>
                <a:gridCol w="3668760"/>
              </a:tblGrid>
              <a:tr h="163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итерий 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ение уровня загряз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&lt; 0,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нижен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2 ≤ Р &lt; 0,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ышен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9 ≤ Р &lt; 0,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со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≥ 0,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чень высо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Прямоугольник 30"/>
          <p:cNvSpPr/>
          <p:nvPr/>
        </p:nvSpPr>
        <p:spPr>
          <a:xfrm>
            <a:off x="4952880" y="1324080"/>
            <a:ext cx="480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Расчет обобщённого показателя загрязнения воздуха по городу в целом и определение степени НМУ ведется согласно указаниям приведёнными в «Правилах предоставления информации о неблагоприятных метеорологических условиях, требований к составу и содержанию такой информации, порядка ее опубликования и предоставления заинтересованным лицам»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i="1" lang="kk-K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ации параметра «Р» для каждого города РК индивидуальны, расчитываются на основе данных многолетних данн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31"/>
          <p:cNvSpPr/>
          <p:nvPr/>
        </p:nvSpPr>
        <p:spPr>
          <a:xfrm>
            <a:off x="4952880" y="2106720"/>
            <a:ext cx="478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предоставления предупреждений о НМУ различной степ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016600" y="2382840"/>
          <a:ext cx="4680000" cy="2225520"/>
        </p:xfrm>
        <a:graphic>
          <a:graphicData uri="http://schemas.openxmlformats.org/drawingml/2006/table">
            <a:tbl>
              <a:tblPr/>
              <a:tblGrid>
                <a:gridCol w="861840"/>
                <a:gridCol w="3818160"/>
              </a:tblGrid>
              <a:tr h="137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и НМ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предоставления предупрежде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ПДКм.р&lt; СИ &lt; 3ПДКм.р. или СИ ≥ 3ПДКм.р.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но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 &lt; 3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СИ ≥ 3ПДКм.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двух суток подряд или более, а также всех или на подавляющей части постах выполняется условие СИ ≥ 5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TextBox 33"/>
          <p:cNvSpPr/>
          <p:nvPr/>
        </p:nvSpPr>
        <p:spPr>
          <a:xfrm>
            <a:off x="4960800" y="4602240"/>
            <a:ext cx="480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и прогнозируемая синоптическая ситуация и комплекс неблагоприятных метеорологических условий, способствуют дальнейшему накоплению загрязняющих веществ в атмосфер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317520" y="73836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отсутствую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7T06:03:00Z</dcterms:created>
  <dc:creator>Ольга Корнюхова</dc:creator>
  <dc:description/>
  <dc:language>en-US</dc:language>
  <cp:lastModifiedBy>Moldir Kabdualieva</cp:lastModifiedBy>
  <cp:lastPrinted>2022-06-26T09:30:29Z</cp:lastPrinted>
  <dcterms:modified xsi:type="dcterms:W3CDTF">2022-10-29T09:29:22Z</dcterms:modified>
  <cp:revision>248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1.2.0.9144</vt:lpwstr>
  </property>
</Properties>
</file>