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ED326-5712-4C7C-B51D-03AF9CB64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988F9-DC13-45FE-83E1-1685C1107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FD5D5-8555-4895-9B99-6FAFF348C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9EEEF-9A57-4D3A-8630-31DAAFB54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D5448-C1BB-472A-AD78-56D0F114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55F8E-D225-481C-8722-C458F90D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9EFCF-7579-4B45-A3AC-88EBFCE47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E19D-1F2A-486D-846B-79513092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22DA-E4FF-4B1E-9D9B-5CBB3F242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2B01-5BFA-462A-BBB0-415CB6CE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D94D7-113E-4A21-81DF-B235F8B70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FDC38-4621-44FD-AC61-A44C59883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FC3D-927A-429C-BEA7-A50DE62B008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2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9</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9</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0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9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30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 шашынсыз. Түнде және таңертең тұман. Солтүстіктен оңтүстік-батысқа ауысып жел соғады, күші 9-14 м/с. Ауа температурасы түнде 0-2, күндіз 7-9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1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0 қазан 20 сағаттан бастап  31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Солтүстік-батыстан жел соғады, күші 9-14, екпіні 15-20 м/с</a:t>
            </a:r>
            <a:r>
              <a:rPr b="0" lang="ru-RU" sz="1200" spc="-1" strike="noStrike">
                <a:solidFill>
                  <a:srgbClr val="000000"/>
                </a:solidFill>
                <a:latin typeface="Times New Roman"/>
                <a:ea typeface="Times New Roman"/>
              </a:rPr>
              <a:t>. Ауа температурасы түнде  4-6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30 қазан, 31 қаз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6"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7"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9" name="TextBox 2"/>
          <p:cNvSpPr/>
          <p:nvPr/>
        </p:nvSpPr>
        <p:spPr>
          <a:xfrm>
            <a:off x="279360" y="87624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Ұсыныстар жо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9T09:29:16Z</dcterms:modified>
  <cp:revision>247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