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AFE-F2A9-40D8-BB7E-EEA6C99D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FCE-910C-4744-8DCB-DA5D5E7E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578F-FEE3-4D50-9E52-A39D7810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248F-DF32-490A-8F22-CD8EC6DE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2601-2497-4054-B127-582E6856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2462-7AAC-4591-BB61-18847BC3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8DC6-03F9-4493-A179-74C89BA4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EE8E-724C-4AB3-A086-88123F52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F9CD-0062-49AC-A1EB-9696E58D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5983-D1A2-4215-902B-E0B82309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B208-5B84-471E-990B-D4C9682F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7E2F-4D35-4584-AC9D-121E9A11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C673-A859-458F-A5BE-949B9969B5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89120"/>
          <a:ext cx="4465800" cy="220824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2082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9 окт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75360" y="6543720"/>
          <a:ext cx="4730760" cy="31428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85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21"/>
          <p:cNvSpPr/>
          <p:nvPr/>
        </p:nvSpPr>
        <p:spPr>
          <a:xfrm>
            <a:off x="5024520" y="3714840"/>
            <a:ext cx="48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 октября 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5024520" y="115920"/>
            <a:ext cx="471492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0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29 октября 2022 г. до 21 ч. 30 окт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днем небольшие осадки (дождь, снег). Ветер юго-восточный 2-7 м/с. Температура воздуха ночью 4-6 мороза, днем 2-4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1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30 октября 2022 г. до 09 ч. 31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небольшие осадки (дождь, снег). Ветер юго-западный 2-7 м/с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Температура воздуха 0-2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4520" y="4214880"/>
          <a:ext cx="4667040" cy="2252520"/>
        </p:xfrm>
        <a:graphic>
          <a:graphicData uri="http://schemas.openxmlformats.org/drawingml/2006/table">
            <a:tbl>
              <a:tblPr/>
              <a:tblGrid>
                <a:gridCol w="1795320"/>
                <a:gridCol w="1433520"/>
                <a:gridCol w="143820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 концентрация, мкг/м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Д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4"/>
          <p:cNvSpPr/>
          <p:nvPr/>
        </p:nvSpPr>
        <p:spPr>
          <a:xfrm>
            <a:off x="5027760" y="2201760"/>
            <a:ext cx="4714560" cy="763560"/>
          </a:xfrm>
          <a:prstGeom prst="rect">
            <a:avLst/>
          </a:prstGeom>
          <a:solidFill>
            <a:srgbClr val="e46c0a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ки 30, ночью 31 октября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рологические условия будут способствовать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ю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агрязняющих веществ в атмосфере горо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сутки 30, ночью 31 октября ожидается повышенный уровень загрязнения воздух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3429000"/>
            <a:ext cx="468000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1, 2, 3 степени НМУ отсут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317520" y="246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НАСЕЛЕНИЯ ПРИ Н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42920" y="4041720"/>
            <a:ext cx="4808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стана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10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ул. Жамбула,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2 – проспект Республики, 35 (школ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3 – Телжан Шонанұлы 47, район лесоза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4 – ул. Лепсы, 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.Туран , 2/1  центральная спасательная ст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л. Акжол, район отстойника сточных вод «Астана Тазалы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л. Туркестан, 2/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ФМШ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–  ул. Бабатайулы, д. 24, Коктал-1, Сарыарк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–  ул. А. Байтурсынова, 25, Мечеть Х.Султан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0 – ул. К. Мунайтпасова, 13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4952880" y="68400"/>
            <a:ext cx="48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Группа 24"/>
          <p:cNvGrpSpPr/>
          <p:nvPr/>
        </p:nvGrpSpPr>
        <p:grpSpPr>
          <a:xfrm>
            <a:off x="5153040" y="4922280"/>
            <a:ext cx="4546440" cy="1408680"/>
            <a:chOff x="5153040" y="4922280"/>
            <a:chExt cx="4546440" cy="1408680"/>
          </a:xfrm>
        </p:grpSpPr>
        <p:pic>
          <p:nvPicPr>
            <p:cNvPr id="59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157000" y="5526000"/>
              <a:ext cx="40417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Прямоугольник 8"/>
            <p:cNvSpPr/>
            <p:nvPr/>
          </p:nvSpPr>
          <p:spPr>
            <a:xfrm>
              <a:off x="5197320" y="4922280"/>
              <a:ext cx="1873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Астана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Прямоугольник 20"/>
            <p:cNvSpPr/>
            <p:nvPr/>
          </p:nvSpPr>
          <p:spPr>
            <a:xfrm>
              <a:off x="5153040" y="5087160"/>
              <a:ext cx="45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Прямоугольник 11"/>
          <p:cNvSpPr/>
          <p:nvPr/>
        </p:nvSpPr>
        <p:spPr>
          <a:xfrm>
            <a:off x="5043600" y="648648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5051520" y="6330960"/>
            <a:ext cx="452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9"/>
          <p:cNvSpPr/>
          <p:nvPr/>
        </p:nvSpPr>
        <p:spPr>
          <a:xfrm>
            <a:off x="4937040" y="1343160"/>
            <a:ext cx="48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18040" y="501480"/>
          <a:ext cx="4681440" cy="854280"/>
        </p:xfrm>
        <a:graphic>
          <a:graphicData uri="http://schemas.openxmlformats.org/drawingml/2006/table">
            <a:tbl>
              <a:tblPr/>
              <a:tblGrid>
                <a:gridCol w="1020960"/>
                <a:gridCol w="3660480"/>
              </a:tblGrid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ж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7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37 ≤ Р &lt;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Прямоугольник 20"/>
          <p:cNvSpPr/>
          <p:nvPr/>
        </p:nvSpPr>
        <p:spPr>
          <a:xfrm>
            <a:off x="4952880" y="21002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19840" y="2430360"/>
          <a:ext cx="4679640" cy="2225880"/>
        </p:xfrm>
        <a:graphic>
          <a:graphicData uri="http://schemas.openxmlformats.org/drawingml/2006/table">
            <a:tbl>
              <a:tblPr/>
              <a:tblGrid>
                <a:gridCol w="861840"/>
                <a:gridCol w="381780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Прямоугольник 2"/>
          <p:cNvSpPr/>
          <p:nvPr/>
        </p:nvSpPr>
        <p:spPr>
          <a:xfrm>
            <a:off x="4970520" y="4627440"/>
            <a:ext cx="47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263520" y="660240"/>
            <a:ext cx="44402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кратить время пребывания на открытом воздухе, особенно вблизи автотрасс или других источников загрязнения. Детям и беременным женщинам следует отказаться от длительных прогулок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ям, страдающим хроническими заболеваниями легких, сердечно-сосудистыми, аллергическими заболеваниями, при нахождении на открытом воздухе, необходимо иметь при себе необходимые лекарственные препарат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ить физическую нагрузку на открытом воздухе. Занятие физкультурой и спортом проводить в закрытых спортивных комплек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 Kabdualieva</cp:lastModifiedBy>
  <cp:lastPrinted>2021-07-01T07:38:07Z</cp:lastPrinted>
  <dcterms:modified xsi:type="dcterms:W3CDTF">2022-10-29T09:26:56Z</dcterms:modified>
  <cp:revision>286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