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0AA2D-892B-414F-B10F-219F109BC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BDE68-0DFE-4009-BCDE-D11A60F8A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7422C-EC03-4D0E-9AED-C75764316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0E44F-6A56-419B-AC32-178064CAD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5DFFE-25A8-4481-A81E-14E1203CD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93796-A3E7-4A57-AD78-1C245B55C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7C39E-09C7-4884-905F-CC6E5EF17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3FC1-FD87-4343-ADD5-15D299A10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8071F-CEC8-4302-AD08-C9D49F263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9407-F77D-4138-8D4B-C85579A1C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B203-C928-4079-B682-2AE5AD990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B17B8-C894-4223-857A-13D916AA7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AD56-0DAF-4C63-8D7A-D0E1F55F8A6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98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5 қаз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6 </a:t>
            </a:r>
            <a:r>
              <a:rPr b="1" lang="kk-KZ" sz="1200" spc="-1" strike="noStrike">
                <a:solidFill>
                  <a:srgbClr val="000000"/>
                </a:solidFill>
                <a:latin typeface="Times New Roman"/>
                <a:ea typeface="Times New Roman"/>
              </a:rPr>
              <a:t>қазан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5 қазан сағ. 21-ден 26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күндіз жаңбыр, тұман. Батыс желі 3-8 м/с. Ауа температурасы 5-7, күндіз 11-13 градус жыл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27 қаз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6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ден 27 қазан сағ. 09-ға дейін</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жауын-шашын. Жел 2-7 м/с. Ауа температурасы 5-7 градус жылы.</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8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9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78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3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1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5 қаз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6 </a:t>
            </a:r>
            <a:r>
              <a:rPr b="0" lang="kk-KZ" sz="1200" spc="-1" strike="noStrike">
                <a:solidFill>
                  <a:srgbClr val="000000"/>
                </a:solidFill>
                <a:latin typeface="Times New Roman"/>
                <a:ea typeface="Times New Roman"/>
              </a:rPr>
              <a:t>қазан</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rPr>
              <a:t>тәулік бойы, 27 қазан түнде метеорологиялық жағдайлар қала атмосферасында ластаушы заттардың сейілуіне</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163440" y="2050920"/>
            <a:ext cx="4708440" cy="465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Қазақ ұлттық университеті айм.Әл-Фараби Атындағы Қазұу;</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 Боралдай Автошаруашылығы, Аэродромная көшесі</a:t>
            </a:r>
            <a:r>
              <a:rPr b="0" lang="ru-RU"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 «Алматы арена» мұз айды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 70 разъезд, №32 жалпы білім беретін мектеп;</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a:t>
            </a:r>
            <a:r>
              <a:rPr b="0" lang="ru-RU" sz="1200" spc="-1" strike="noStrike">
                <a:solidFill>
                  <a:srgbClr val="000000"/>
                </a:solidFill>
                <a:latin typeface="Times New Roman"/>
                <a:ea typeface="Times New Roman"/>
              </a:rPr>
              <a:t>«Халық арена» Мұз аренасы, «Думан» шағын ауда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7 бекет – </a:t>
            </a:r>
            <a:r>
              <a:rPr b="0" lang="ru-RU" sz="1200" spc="-1" strike="noStrike">
                <a:solidFill>
                  <a:srgbClr val="000000"/>
                </a:solidFill>
                <a:latin typeface="Times New Roman"/>
                <a:ea typeface="Times New Roman"/>
              </a:rPr>
              <a:t>Әйгерім 2 шағын ауданы, В. Бенберин көшесі, 6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8 бекет – </a:t>
            </a:r>
            <a:r>
              <a:rPr b="0" lang="ru-RU" sz="1200" spc="-1" strike="noStrike">
                <a:solidFill>
                  <a:srgbClr val="000000"/>
                </a:solidFill>
                <a:latin typeface="Times New Roman"/>
              </a:rPr>
              <a:t>аэрологиялық станция (әуежай ауданы)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метов к-сі, 50</a:t>
            </a:r>
            <a:r>
              <a:rPr b="0" lang="kk-KZ" sz="1200" spc="-1" strike="noStrike">
                <a:solidFill>
                  <a:srgbClr val="000000"/>
                </a:solidFill>
                <a:latin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9 бекет – Түрксіб ауданының АІІБ, Р. Зорге көшесі, 14;</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0 бекет – «Шаңырақ» шағынауданы, №26 мектеп, Жанқожа батыр көшесі, 202;</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6 бекет – Айнабұлақ-3 ш.а.;</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6 бекет – Тастақ-1 ш. а., Төле би к-сі, 249, «№8 қалалық балалар емханасы» ММ</a:t>
            </a:r>
            <a:endParaRPr b="0" lang="en-US" sz="12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Қабдуалиева М.С.</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95280" y="792000"/>
            <a:ext cx="139536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Times New Roman"/>
              </a:rPr>
              <a:t>Ұсыныстар жоқ</a:t>
            </a:r>
            <a:endParaRPr b="0" lang="en-US" sz="1400" spc="-1" strike="noStrike">
              <a:solidFill>
                <a:srgbClr val="000000"/>
              </a:solidFill>
              <a:latin typeface="Times New Roman"/>
            </a:endParaRPr>
          </a:p>
        </p:txBody>
      </p:sp>
      <p:sp>
        <p:nvSpPr>
          <p:cNvPr id="66"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7"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8"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25T09:06:11Z</dcterms:modified>
  <cp:revision>278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