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6BA-1D40-4C24-A0EE-588C93D1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00D-2967-40D3-A023-B64EA8FF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09A-C5C6-4DE2-AFAA-F9BD706D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98D-0CFF-45AE-985F-F6D96392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3EE-F2DF-4701-8FC0-1CB89105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883-3AF7-41BA-80DB-9A397EED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6C1-BE41-4A8E-913D-96F9D5F3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A24-4056-45C1-9709-F97F2F4D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F60-5776-4A4E-BD29-9678DB79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CD8-62CF-4E86-8656-711A89AC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64C-8C5F-4963-94EA-FF1E80CD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C54-B26A-4E08-BFCC-97B2B86C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6DDB-314E-451C-BAD1-ABB583274F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2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5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окт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6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5 октября 2022 г. до 21 ч. 26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временами осадки (дождь, мокрый снег). Ветер юго-западный с переходом на северо-западный 9-14, днем порывы 15-20 м/с. Температура воздуха ночью около 0 градусов, днем 4-6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7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6 октября 2022 г. до 09 ч. 27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временами осадки (дождь, снег). Ветер северо-западный 9-14, порывы 15-20 м/с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Температура воздуха около 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571840"/>
            <a:ext cx="4714920" cy="82404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ивани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9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7 ≤ Р &lt;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54160" y="64296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1-07-01T07:38:07Z</cp:lastPrinted>
  <dcterms:modified xsi:type="dcterms:W3CDTF">2022-10-25T09:08:47Z</dcterms:modified>
  <cp:revision>28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