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9FC-D12B-4FFE-9CBF-57720192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8C3-40D4-4388-AB78-D2A53971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EBA-C5B5-440F-8109-4B37AA2C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8DC-173D-467C-876F-BF5A7F08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5F2-8156-4E5B-97F7-3247D14D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2DE-8240-4E34-9119-0AFF7016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4D7-D341-454A-9201-1AE0A5A8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18DC-11B4-4E1D-9184-2272C0A2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123-DBD9-4C3C-8197-67CC38CA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22D-F70F-4D5D-8AA4-FA6DABA7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E31-7E9B-475D-874F-F1E3E991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907-EA1D-4FA7-A79E-C3286FAD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0169-5EB1-42A7-B8AA-D7D6279F6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2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5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6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5 октября по 20 ч. 26 окт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северо-западный 9-14 м/с. Температура воздуха ночью 0-2, днем 6-8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7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6 октября по 08 ч. 27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восточный 7-12 м/с. Температура воздуха ноч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октября, ночью 27 октя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выш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1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5141880" y="615960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415800" y="6681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отсутству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2-06-26T09:30:29Z</cp:lastPrinted>
  <dcterms:modified xsi:type="dcterms:W3CDTF">2022-10-25T09:11:07Z</dcterms:modified>
  <cp:revision>24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