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CD77-3F3E-4706-9D32-AB64C92B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401E-3C1F-4E54-BA57-6B63640C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AE5F-FAB0-4E0D-80DE-4F287D22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B014-0F45-4D78-B09C-6DE3D494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9319-CEAF-4479-97C3-2515FFF7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62AB-6546-4BE6-8E0B-B1055AF1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2AE-DFD9-4460-B9BE-1CE4F9215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05A9-7AEA-41C5-BC03-DFB1923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942-CC98-4C26-A017-21D328E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6765-F376-4E3A-A340-8E48144C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9173-B98D-424C-92B1-C1BBFAC4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9FF8-36BB-4F41-98A1-4A744683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23D2-D5B4-4219-88F0-1373FBE5E8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35120"/>
          <a:ext cx="4465800" cy="217980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17980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 №2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тыра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4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Прямоугольник 2"/>
          <p:cNvSpPr/>
          <p:nvPr/>
        </p:nvSpPr>
        <p:spPr>
          <a:xfrm>
            <a:off x="4952880" y="112680"/>
            <a:ext cx="4824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4 октября по 20 ч. 25 октября 2022 г.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ждь. Ветер юго-восточный с переходом на северо-западный 9-14, днем порывы 15-20 м/с. Температура воздуха ночью 8-10, днем 10-12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6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 ч. 25 октября по 08 ч. 26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садков. Ветер северо-западный 9-14 м/с. Температура воздуха ночью 6-8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140440" y="6527880"/>
          <a:ext cx="4730760" cy="21276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Прямоугольник 21"/>
          <p:cNvSpPr/>
          <p:nvPr/>
        </p:nvSpPr>
        <p:spPr>
          <a:xfrm>
            <a:off x="4960800" y="3500280"/>
            <a:ext cx="482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 г. Атыра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4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68800" y="4000680"/>
          <a:ext cx="4624560" cy="2527200"/>
        </p:xfrm>
        <a:graphic>
          <a:graphicData uri="http://schemas.openxmlformats.org/drawingml/2006/table">
            <a:tbl>
              <a:tblPr/>
              <a:tblGrid>
                <a:gridCol w="1812960"/>
                <a:gridCol w="1386000"/>
                <a:gridCol w="1425600"/>
              </a:tblGrid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нтрация, мкг/м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ревышения ПД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6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5"/>
          <p:cNvSpPr/>
          <p:nvPr/>
        </p:nvSpPr>
        <p:spPr>
          <a:xfrm>
            <a:off x="5024520" y="3143160"/>
            <a:ext cx="468144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 1, 2, 3 степени НМУ отсу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2071800"/>
            <a:ext cx="4681440" cy="100656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октября, ночью 26 октября 2022 года метеорологические условия будут способствовать рассеиванию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вышенный уровень загрязнения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9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61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Группа 5"/>
          <p:cNvGrpSpPr/>
          <p:nvPr/>
        </p:nvGrpSpPr>
        <p:grpSpPr>
          <a:xfrm>
            <a:off x="112680" y="246240"/>
            <a:ext cx="4840200" cy="2304360"/>
            <a:chOff x="112680" y="246240"/>
            <a:chExt cx="4840200" cy="2304360"/>
          </a:xfrm>
        </p:grpSpPr>
        <p:sp>
          <p:nvSpPr>
            <p:cNvPr id="58" name="TextBox 15"/>
            <p:cNvSpPr/>
            <p:nvPr/>
          </p:nvSpPr>
          <p:spPr>
            <a:xfrm>
              <a:off x="317160" y="246240"/>
              <a:ext cx="46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КОМЕНДАЦИИ ДЛЯ НАСЕЛЕНИЯ ПРИ НМУ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Box 16"/>
            <p:cNvSpPr/>
            <p:nvPr/>
          </p:nvSpPr>
          <p:spPr>
            <a:xfrm>
              <a:off x="112680" y="555120"/>
              <a:ext cx="4810320" cy="19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indent="176040" algn="just"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ограничить физическую нагрузку на открытом воздухе. Занятие физкультурой и спортом проводить в закрытых спортивных комплексах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Прямоугольник 26"/>
          <p:cNvSpPr/>
          <p:nvPr/>
        </p:nvSpPr>
        <p:spPr>
          <a:xfrm>
            <a:off x="276120" y="4587840"/>
            <a:ext cx="466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тырау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5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микрорайон Самал, улица А.Кекильбаева, 1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5 – микрорайон Курсай, улица Карабау, строение 1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6 – микрорайон Жулдыз, улица №6, 29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- район Химпоселок, Сырдарья №3 (спец, школа для детей с нарушением реч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- микрайон Береке, район промзоны Бер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4923000" y="92160"/>
            <a:ext cx="485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24"/>
          <p:cNvGrpSpPr/>
          <p:nvPr/>
        </p:nvGrpSpPr>
        <p:grpSpPr>
          <a:xfrm>
            <a:off x="5257800" y="4489560"/>
            <a:ext cx="4290840" cy="1747800"/>
            <a:chOff x="5257800" y="4489560"/>
            <a:chExt cx="4290840" cy="1747800"/>
          </a:xfrm>
        </p:grpSpPr>
        <p:pic>
          <p:nvPicPr>
            <p:cNvPr id="63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260680" y="5434560"/>
              <a:ext cx="4041720" cy="80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Прямоугольник 8"/>
            <p:cNvSpPr/>
            <p:nvPr/>
          </p:nvSpPr>
          <p:spPr>
            <a:xfrm>
              <a:off x="5271480" y="4672800"/>
              <a:ext cx="21254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Нур-Султан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оугольник 20"/>
            <p:cNvSpPr/>
            <p:nvPr/>
          </p:nvSpPr>
          <p:spPr>
            <a:xfrm>
              <a:off x="5257800" y="4489560"/>
              <a:ext cx="4290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Прямоугольник 11"/>
          <p:cNvSpPr/>
          <p:nvPr/>
        </p:nvSpPr>
        <p:spPr>
          <a:xfrm>
            <a:off x="5018040" y="640080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5141880" y="6159600"/>
            <a:ext cx="45212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ырзашева К</a:t>
            </a:r>
            <a:r>
              <a:rPr b="1" i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997520" y="528480"/>
          <a:ext cx="4703760" cy="816120"/>
        </p:xfrm>
        <a:graphic>
          <a:graphicData uri="http://schemas.openxmlformats.org/drawingml/2006/table">
            <a:tbl>
              <a:tblPr/>
              <a:tblGrid>
                <a:gridCol w="1035000"/>
                <a:gridCol w="3668760"/>
              </a:tblGrid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итерий 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ниж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2 ≤ Р &lt; 0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выше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29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0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чень высок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Прямоугольник 30"/>
          <p:cNvSpPr/>
          <p:nvPr/>
        </p:nvSpPr>
        <p:spPr>
          <a:xfrm>
            <a:off x="4952880" y="1324080"/>
            <a:ext cx="480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31"/>
          <p:cNvSpPr/>
          <p:nvPr/>
        </p:nvSpPr>
        <p:spPr>
          <a:xfrm>
            <a:off x="4952880" y="2106720"/>
            <a:ext cx="478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016600" y="2382840"/>
          <a:ext cx="4680000" cy="2225520"/>
        </p:xfrm>
        <a:graphic>
          <a:graphicData uri="http://schemas.openxmlformats.org/drawingml/2006/table">
            <a:tbl>
              <a:tblPr/>
              <a:tblGrid>
                <a:gridCol w="861840"/>
                <a:gridCol w="381816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Box 33"/>
          <p:cNvSpPr/>
          <p:nvPr/>
        </p:nvSpPr>
        <p:spPr>
          <a:xfrm>
            <a:off x="4960800" y="4602240"/>
            <a:ext cx="480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Пользователь</cp:lastModifiedBy>
  <cp:lastPrinted>2022-06-26T09:30:29Z</cp:lastPrinted>
  <dcterms:modified xsi:type="dcterms:W3CDTF">2022-10-24T07:31:04Z</dcterms:modified>
  <cp:revision>247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