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B07-B0ED-49C5-8E11-C8DF71CF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980F-13E1-4DFF-B209-76F12011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4F1D-2653-4494-A8F0-EAD00A3D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896-9756-4CB1-9781-417E7C05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0C71-A0A8-4882-BACB-85692DBD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B3F-AD85-49DA-8598-23954F043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1193-FBEC-48B7-AF1D-EE235505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469E-ACAC-4637-8F44-A451989D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7A99-08B2-4FCC-B2DF-485A20CF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06B8-737C-4298-9767-E18EA9D9B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E20-92AF-4479-BAC3-8E4BF57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508-6B6D-4D16-8E52-15DC9835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0D38-8FA3-4F54-B3D1-E610D7CF68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4520" y="6392880"/>
          <a:ext cx="4465440" cy="347760"/>
        </p:xfrm>
        <a:graphic>
          <a:graphicData uri="http://schemas.openxmlformats.org/drawingml/2006/table">
            <a:tbl>
              <a:tblPr/>
              <a:tblGrid>
                <a:gridCol w="4465440"/>
              </a:tblGrid>
              <a:tr h="34776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Box 7"/>
          <p:cNvSpPr/>
          <p:nvPr/>
        </p:nvSpPr>
        <p:spPr>
          <a:xfrm>
            <a:off x="128520" y="216000"/>
            <a:ext cx="482436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инистерство экологии, геологии и природных ресурсов Республики Казахст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ГП «КАЗГИДРОМЕ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1" descr=""/>
          <p:cNvPicPr/>
          <p:nvPr/>
        </p:nvPicPr>
        <p:blipFill>
          <a:blip r:embed="rId1"/>
          <a:srcRect l="0" t="17821" r="0" b="17471"/>
          <a:stretch/>
        </p:blipFill>
        <p:spPr>
          <a:xfrm>
            <a:off x="1352520" y="1023840"/>
            <a:ext cx="2028960" cy="13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307800" y="2589120"/>
          <a:ext cx="4465800" cy="2208240"/>
        </p:xfrm>
        <a:graphic>
          <a:graphicData uri="http://schemas.openxmlformats.org/drawingml/2006/table">
            <a:tbl>
              <a:tblPr/>
              <a:tblGrid>
                <a:gridCol w="4465800"/>
              </a:tblGrid>
              <a:tr h="220824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ЕЖЕДНЕВНЫЙ БЮЛЛЕТЕНЬ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ОСТОЯНИЯ ВОЗДУШНОГО БАССЕЙНА </a:t>
                      </a:r>
                      <a:r>
                        <a:rPr b="1" i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№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г. </a:t>
                      </a:r>
                      <a:r>
                        <a:rPr b="1" i="1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4 октября </a:t>
                      </a:r>
                      <a:r>
                        <a:rPr b="1" i="1" lang="kk-KZ" sz="1200" spc="-1" strike="noStrike">
                          <a:solidFill>
                            <a:srgbClr val="002060"/>
                          </a:solidFill>
                          <a:latin typeface="Times New Roman"/>
                          <a:ea typeface="宋体"/>
                        </a:rPr>
                        <a:t>2022 г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175360" y="6543720"/>
          <a:ext cx="4730760" cy="314280"/>
        </p:xfrm>
        <a:graphic>
          <a:graphicData uri="http://schemas.openxmlformats.org/drawingml/2006/table">
            <a:tbl>
              <a:tblPr/>
              <a:tblGrid>
                <a:gridCol w="4730760"/>
              </a:tblGrid>
              <a:tr h="18576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ДК согласно «Санитарно-эпидемиологическим правилам и нормам к атмосферному воздуху» от 28.02.2015г №16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520"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Прямоугольник 21"/>
          <p:cNvSpPr/>
          <p:nvPr/>
        </p:nvSpPr>
        <p:spPr>
          <a:xfrm>
            <a:off x="5024520" y="3714840"/>
            <a:ext cx="480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атмосферного воздуха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 октября 2022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5024520" y="115920"/>
            <a:ext cx="4714920" cy="20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погоды по г. Аст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5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4 октября 2022 г. до 21 ч. 25 октября 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без осадков. Ветер южный, юго-западный 7-12 м/с. Температура воздуха ночью 3-5 мороза, днем 5-7 теп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1 ч. 25 октября 2022 г. до 09 ч. 26</a:t>
            </a:r>
            <a:r>
              <a:rPr b="1" lang="kk-KZ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тября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ая облачность, временами осадки (дождь, снег). Ветер северо-западный 9-14 м/с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Температура воздуха около 0 граду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5024520" y="4214880"/>
          <a:ext cx="4667040" cy="2252520"/>
        </p:xfrm>
        <a:graphic>
          <a:graphicData uri="http://schemas.openxmlformats.org/drawingml/2006/table">
            <a:tbl>
              <a:tblPr/>
              <a:tblGrid>
                <a:gridCol w="1795320"/>
                <a:gridCol w="1433520"/>
                <a:gridCol w="1438200"/>
              </a:tblGrid>
              <a:tr h="419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рязняющее вещ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ая концентрация, мкг/м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тность ПД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2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вешенные частицы РМ-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сер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углер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аз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оводор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миа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1" name="TextBox 14"/>
          <p:cNvSpPr/>
          <p:nvPr/>
        </p:nvSpPr>
        <p:spPr>
          <a:xfrm>
            <a:off x="5024520" y="2357280"/>
            <a:ext cx="4714920" cy="824040"/>
          </a:xfrm>
          <a:prstGeom prst="rect">
            <a:avLst/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еорологические условия будут способствовать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еивани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агрязняющих веществ в атмосфере го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ом по городу ожидается пониженный уровень загрязнения воздух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13"/>
          <p:cNvSpPr/>
          <p:nvPr/>
        </p:nvSpPr>
        <p:spPr>
          <a:xfrm>
            <a:off x="5024520" y="3429000"/>
            <a:ext cx="4680000" cy="276480"/>
          </a:xfrm>
          <a:prstGeom prst="rect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 1, 2, 3 степени НМУ отсут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3"/>
          <p:cNvSpPr/>
          <p:nvPr/>
        </p:nvSpPr>
        <p:spPr>
          <a:xfrm>
            <a:off x="128520" y="115920"/>
            <a:ext cx="9648720" cy="66261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12"/>
          <p:cNvSpPr/>
          <p:nvPr/>
        </p:nvSpPr>
        <p:spPr>
          <a:xfrm>
            <a:off x="4937040" y="115920"/>
            <a:ext cx="15840" cy="662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317520" y="246240"/>
            <a:ext cx="463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ДЛЯ НАСЕЛЕНИЯ ПРИ НМ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42920" y="4041720"/>
            <a:ext cx="4808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роде Астана наблюден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уровнем загрязнения атмосферного воздух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ится на 10 постах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 – ул. Жамбула,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2 – проспект Республики, 35 (школ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3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3 – Телжан Шонанұлы 47, район лесозав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4 – ул. Лепсы, 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.Туран , 2/1  центральная спасательная ста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л. Акжол, район отстойника сточных вод «Астана Тазалы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л. Туркестан, 2/1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ФМШ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8 –  ул. Бабатайулы, д. 24, Коктал-1, Сарыарк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9 –  ул. А. Байтурсынова, 25, Мечеть Х.Султан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 № 10 – ул. К. Мунайтпасова, 13, Алматинский рай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3"/>
          <p:cNvSpPr/>
          <p:nvPr/>
        </p:nvSpPr>
        <p:spPr>
          <a:xfrm>
            <a:off x="4952880" y="68400"/>
            <a:ext cx="48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«Р» является обобщённым показателем загрязнения воздуха по городу в цело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Группа 24"/>
          <p:cNvGrpSpPr/>
          <p:nvPr/>
        </p:nvGrpSpPr>
        <p:grpSpPr>
          <a:xfrm>
            <a:off x="5153040" y="4910760"/>
            <a:ext cx="4546440" cy="1420200"/>
            <a:chOff x="5153040" y="4910760"/>
            <a:chExt cx="4546440" cy="1420200"/>
          </a:xfrm>
        </p:grpSpPr>
        <p:pic>
          <p:nvPicPr>
            <p:cNvPr id="59" name="Таблица 25" descr=""/>
            <p:cNvPicPr/>
            <p:nvPr/>
          </p:nvPicPr>
          <p:blipFill>
            <a:blip r:embed="rId1"/>
            <a:stretch/>
          </p:blipFill>
          <p:spPr>
            <a:xfrm>
              <a:off x="5153040" y="5434560"/>
              <a:ext cx="4124880" cy="89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Прямоугольник 8"/>
            <p:cNvSpPr/>
            <p:nvPr/>
          </p:nvSpPr>
          <p:spPr>
            <a:xfrm>
              <a:off x="5246280" y="4910760"/>
              <a:ext cx="1873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. Астана, ул. Мангилик ел 11/1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Прямоугольник 20"/>
            <p:cNvSpPr/>
            <p:nvPr/>
          </p:nvSpPr>
          <p:spPr>
            <a:xfrm>
              <a:off x="5214960" y="5081040"/>
              <a:ext cx="4484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нтакты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Прямоугольник 11"/>
          <p:cNvSpPr/>
          <p:nvPr/>
        </p:nvSpPr>
        <p:spPr>
          <a:xfrm>
            <a:off x="5043600" y="6486480"/>
            <a:ext cx="478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При использовании информации ссылка на РГП «Казгидромет» обязательна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"/>
          <p:cNvSpPr/>
          <p:nvPr/>
        </p:nvSpPr>
        <p:spPr>
          <a:xfrm>
            <a:off x="5051520" y="6330960"/>
            <a:ext cx="452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л</a:t>
            </a:r>
            <a:r>
              <a:rPr b="1" i="1" lang="kk-KZ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бдуалиева М.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4937040" y="1343160"/>
            <a:ext cx="484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Расчет обобщённого показателя загрязнения воздуха по городу в целом и определение степени НМУ ведется согласно указаниям приведёнными в «Правилах предоставления информации о неблагоприятных метеорологических условиях, требований к составу и содержанию такой информации, порядка ее опубликования и предоставления заинтересованным лицам»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i="1" lang="kk-KZ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ации параметра «Р» для каждого города РК индивидуальны, расчитываются на основе данных многолетних данн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18040" y="501480"/>
          <a:ext cx="4681440" cy="854280"/>
        </p:xfrm>
        <a:graphic>
          <a:graphicData uri="http://schemas.openxmlformats.org/drawingml/2006/table">
            <a:tbl>
              <a:tblPr/>
              <a:tblGrid>
                <a:gridCol w="1020960"/>
                <a:gridCol w="3660480"/>
              </a:tblGrid>
              <a:tr h="152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итери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уровня загрязн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&lt; 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иж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20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17 ≤ Р &lt; 0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вышенн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7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37 ≤ Р &lt;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3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 ≥ 0,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нь высок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6" name="Прямоугольник 20"/>
          <p:cNvSpPr/>
          <p:nvPr/>
        </p:nvSpPr>
        <p:spPr>
          <a:xfrm>
            <a:off x="4952880" y="210024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 предоставления предупреждений о НМУ различной степен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019840" y="2430360"/>
          <a:ext cx="4679640" cy="2225880"/>
        </p:xfrm>
        <a:graphic>
          <a:graphicData uri="http://schemas.openxmlformats.org/drawingml/2006/table">
            <a:tbl>
              <a:tblPr/>
              <a:tblGrid>
                <a:gridCol w="861840"/>
                <a:gridCol w="3817800"/>
              </a:tblGrid>
              <a:tr h="13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пени НМ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предоставления предупрежде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ПДКм.р&lt; СИ &lt; 3ПДКм.р. или СИ ≥ 3ПДКм.р.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но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</a:t>
                      </a: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 &lt; 3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а также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всех или на подавляющей части постах выполняется условие СИ ≥ 3ПДКм.р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степ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чение параметра «Р» соответствует очень высокой степени,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чение двух суток подряд или более, а также всех или на подавляющей части постах выполняется условие СИ ≥ 5ПДКм.р.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Прямоугольник 2"/>
          <p:cNvSpPr/>
          <p:nvPr/>
        </p:nvSpPr>
        <p:spPr>
          <a:xfrm>
            <a:off x="4970520" y="4627440"/>
            <a:ext cx="47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0" i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и прогнозируемая синоптическая ситуация и комплекс неблагоприятных метеорологических условий, способствуют дальнейшему накоплению загрязняющих веществ в атмосфер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317520" y="566640"/>
            <a:ext cx="452124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кратить время пребывания на открытом воздухе, особенно вблизи автотрасс или других источников загрязнения. Детям и беременным женщинам следует отказаться от длительных прогулок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ям, страдающим хроническими заболеваниями легких, сердечно-сосудистыми, аллергическими заболеваниями, при нахождении на открытом воздухе, необходимо иметь при себе необходимые лекарственные препарат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ить физическую нагрузку на открытом воздухе. Занятие физкультурой и спортом проводить в закрытых спортивных комплек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06:03:00Z</dcterms:created>
  <dc:creator>Ольга Корнюхова</dc:creator>
  <dc:description/>
  <dc:language>en-US</dc:language>
  <cp:lastModifiedBy>sinoptik3</cp:lastModifiedBy>
  <cp:lastPrinted>2021-07-01T07:38:07Z</cp:lastPrinted>
  <dcterms:modified xsi:type="dcterms:W3CDTF">2022-10-24T07:04:35Z</dcterms:modified>
  <cp:revision>283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1.2.0.9144</vt:lpwstr>
  </property>
</Properties>
</file>