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496-8DA8-47F4-B06D-62A65B68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C67-8963-4D04-9A80-D23CE07F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87D-C56D-4165-A6B4-9FCFAAE5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AD6-5E1C-4154-97A2-E60102E8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5C7-2ACE-4841-8007-CFAA58E5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D95-A370-47F9-83F2-AC84134E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3F1-23B6-415B-92A5-68D3987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FBF-05AE-4A68-A94E-65E01CB4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815-5AD2-45B6-ACF9-9C9EE1EA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A45-5001-4F4D-9F4C-5AFDA36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E4F-4C8B-4462-96DE-00245B18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41F-2407-4D75-A18A-96B5033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FD29-11CE-4BA3-9322-AAE371BE0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3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4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3 октября 2022 г. до 21 ч. 24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3-8 м/с. Температура воздуха ночью 3-5 мороза, днем 3-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4 октября 2022 г. до 09 ч. 2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восточный 3-8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 4-6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10065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 ночью 25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 ночью 25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тся повыш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17520" y="566640"/>
            <a:ext cx="45212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23T08:45:18Z</dcterms:modified>
  <cp:revision>28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