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068-C4D1-449A-AA90-E4A9D77B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A36-FA68-4808-8477-FEF9254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550-AAAF-4C36-9123-36C0BC5A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DAF-5DF1-4846-840C-78C7B646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89B-BE73-4906-9E40-E2CEE7D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B44-AFF9-48D2-9D5E-1B998662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621-2895-462E-9DFC-DC5A8862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E20-F330-4A11-986F-A8DCD4C0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5EF-739F-486F-ACDE-B87F9038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E52-B9DC-45AD-8058-ADE65CD6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1D2-14DA-41BA-A69A-BD4C7B88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1FC-9421-4D08-80BC-D5C2ED54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831-FD23-484F-811E-2A14A9784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3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4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3 октября по 20 ч. 24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3-8 м/с. Температура воздуха ночью 2-4, днем 12-1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4 октября по 08 ч. 25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. Ветер северо-западный 9-14 м/с. Температура воздуха ночью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октября, ночью 25 октября 2022 года метеорологические условия будут способствовать накопле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2304360"/>
            <a:chOff x="112680" y="246240"/>
            <a:chExt cx="4840200" cy="2304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граничить физическую нагрузку на открытом воздухе. Занятие физкультурой и спортом проводить в закрытых спортивных комплексах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23T08:47:36Z</dcterms:modified>
  <cp:revision>24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