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04C6-AB45-4A4E-BB73-58498D82E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93C3-EF96-414E-8A83-AB319C947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1A82B-4FF4-4774-8D2C-4BC093A7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B4B26-97C9-431C-ACCB-863AE5079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DC5F4-4091-4BE2-AA52-6A27DC3E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F38F8-FE26-438D-BD00-0E1AC5E4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0ACD7-2956-42F9-A562-3D6404910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5325-FC2F-40EB-9F86-ADECB546D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8BEAC-7B05-4849-A49C-1D673FBE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4082-FBEF-4A66-8529-A11B762E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7211-8C15-46BB-9072-C14266C82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80C1-5659-4CC9-8029-227D354EA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3565-C494-4AD3-9714-3090B6B38EE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637000"/>
          <a:ext cx="4465800" cy="2361960"/>
        </p:xfrm>
        <a:graphic>
          <a:graphicData uri="http://schemas.openxmlformats.org/drawingml/2006/table">
            <a:tbl>
              <a:tblPr/>
              <a:tblGrid>
                <a:gridCol w="4465800"/>
              </a:tblGrid>
              <a:tr h="23619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9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6</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8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6</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7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6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17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шығыстан жел соғады, күші 3-8 м/с. Ауа температурасы түнде 2-4, күндіз 13-15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8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7 қазан 20 сағаттан бастап  18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шығыстан жел соғады, күші 9-14 м/с</a:t>
            </a:r>
            <a:r>
              <a:rPr b="0" lang="ru-RU" sz="1200" spc="-1" strike="noStrike">
                <a:solidFill>
                  <a:srgbClr val="000000"/>
                </a:solidFill>
                <a:latin typeface="Times New Roman"/>
                <a:ea typeface="Times New Roman"/>
              </a:rPr>
              <a:t>. Ауа температурасы түнде  0-2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7 қазан, 18 қазан қараған түні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жо</a:t>
            </a:r>
            <a:r>
              <a:rPr b="0" lang="kk-KZ" sz="1200" spc="-1" strike="noStrike">
                <a:solidFill>
                  <a:srgbClr val="000000"/>
                </a:solidFill>
                <a:latin typeface="Times New Roman"/>
                <a:ea typeface="Times New Roman"/>
              </a:rPr>
              <a:t>ғары</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062680" y="624348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6"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9" name="TextBox 2"/>
          <p:cNvSpPr/>
          <p:nvPr/>
        </p:nvSpPr>
        <p:spPr>
          <a:xfrm>
            <a:off x="295200" y="8431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6T09:18:16Z</dcterms:modified>
  <cp:revision>245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