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9510-B36E-4ED4-907B-896C7BD9C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9996-4639-4770-AA64-2CD3FCA7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0C4FF-BF37-4DA9-ADE7-3260D7922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971AC-5D04-45CE-84DF-92CB14CD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9063C-5EC9-4B63-B71C-DF45A853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0CE8-F809-47C0-BB64-FB5AB707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45546-C278-4B7F-BD53-D1EF56CB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6CC3-C440-434D-BE4B-0859ADFD4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446A5-6A4E-4722-9159-7FF46B1E1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91B0-E2D9-4FDF-A14E-88FABC67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CF92-BF29-4051-8A29-8EE94DB5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655B-F138-4435-9842-12E6AAE15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22A8-50E7-448D-9E32-9440124E8BA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89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6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3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7</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6 қазан  2022 ж.</a:t>
            </a:r>
            <a:r>
              <a:rPr b="1" lang="ru-RU" sz="1200" spc="-1" strike="noStrike">
                <a:solidFill>
                  <a:srgbClr val="000000"/>
                </a:solidFill>
                <a:latin typeface="Times New Roman"/>
                <a:ea typeface="Times New Roman"/>
              </a:rPr>
              <a:t> сағ. 21-ден 17</a:t>
            </a:r>
            <a:r>
              <a:rPr b="1" lang="kk-KZ" sz="1200" spc="-1" strike="noStrike">
                <a:solidFill>
                  <a:srgbClr val="000000"/>
                </a:solidFill>
                <a:latin typeface="Times New Roman"/>
                <a:ea typeface="Times New Roman"/>
              </a:rPr>
              <a:t> қаз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түнде аздаған жауын-шашын </a:t>
            </a:r>
            <a:r>
              <a:rPr b="0" lang="en-US"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жаңбыр, жылбысқы қар</a:t>
            </a:r>
            <a:r>
              <a:rPr b="0" lang="en-US"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күндіз аздаған жаңбыр. Батыстан жел соғады</a:t>
            </a:r>
            <a:r>
              <a:rPr b="0" lang="ru-RU" sz="1200" spc="-1" strike="noStrike">
                <a:solidFill>
                  <a:srgbClr val="000000"/>
                </a:solidFill>
                <a:latin typeface="Times New Roman"/>
                <a:ea typeface="Times New Roman"/>
              </a:rPr>
              <a:t>, күші 9-14</a:t>
            </a:r>
            <a:r>
              <a:rPr b="0" lang="kk-KZ" sz="1200" spc="-1" strike="noStrike">
                <a:solidFill>
                  <a:srgbClr val="000000"/>
                </a:solidFill>
                <a:latin typeface="Times New Roman"/>
                <a:ea typeface="Times New Roman"/>
              </a:rPr>
              <a:t> м/с. Ауаның температурасы түнде 0-2, күндіз 6-8</a:t>
            </a:r>
            <a:r>
              <a:rPr b="0" lang="ru-RU" sz="1200" spc="-1" strike="noStrike">
                <a:solidFill>
                  <a:srgbClr val="000000"/>
                </a:solidFill>
                <a:latin typeface="Times New Roman"/>
                <a:ea typeface="Times New Roman"/>
              </a:rPr>
              <a:t> градус жыл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ғы 18</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7 қазан </a:t>
            </a:r>
            <a:r>
              <a:rPr b="1" lang="ru-RU" sz="1200" spc="-1" strike="noStrike">
                <a:solidFill>
                  <a:srgbClr val="000000"/>
                </a:solidFill>
                <a:latin typeface="Times New Roman"/>
                <a:ea typeface="Times New Roman"/>
              </a:rPr>
              <a:t>сағ. 21-ден бастап 18</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азадған жауын-шашын </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жаңбыр, қар</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жауады. Б</a:t>
            </a:r>
            <a:r>
              <a:rPr b="0" lang="ru-RU" sz="1200" spc="-1" strike="noStrike">
                <a:solidFill>
                  <a:srgbClr val="000000"/>
                </a:solidFill>
                <a:latin typeface="Times New Roman"/>
                <a:ea typeface="Times New Roman"/>
              </a:rPr>
              <a:t>атыстан, оңтүстік-батыстан </a:t>
            </a:r>
            <a:r>
              <a:rPr b="0" lang="kk-KZ" sz="1200" spc="-1" strike="noStrike">
                <a:solidFill>
                  <a:srgbClr val="000000"/>
                </a:solidFill>
                <a:latin typeface="Times New Roman"/>
                <a:ea typeface="Times New Roman"/>
              </a:rPr>
              <a:t>жел соғады, күші 7-12 м/с. Ауаның температурасы 0-2 градус жылы.</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34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6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8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70836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6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2643120"/>
            <a:ext cx="4680000" cy="82404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7 қазанда </a:t>
            </a: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сейілуіне </a:t>
            </a:r>
            <a:r>
              <a:rPr b="0" lang="kk-KZ" sz="1200" spc="-1" strike="noStrike">
                <a:solidFill>
                  <a:srgbClr val="000000"/>
                </a:solidFill>
                <a:latin typeface="Times New Roman"/>
                <a:ea typeface="Times New Roman"/>
              </a:rPr>
              <a:t>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a:t>
            </a:r>
            <a:r>
              <a:rPr b="1" lang="kk-KZ" sz="1200" spc="-1" strike="noStrike">
                <a:solidFill>
                  <a:srgbClr val="000000"/>
                </a:solidFill>
                <a:latin typeface="Times New Roman"/>
                <a:ea typeface="Times New Roman"/>
              </a:rPr>
              <a:t>17 қазанда </a:t>
            </a:r>
            <a:r>
              <a:rPr b="0" lang="kk-KZ" sz="1200" spc="-1" strike="noStrike">
                <a:solidFill>
                  <a:srgbClr val="000000"/>
                </a:solidFill>
                <a:latin typeface="Times New Roman"/>
                <a:ea typeface="Times New Roman"/>
              </a:rPr>
              <a:t>ауаның ластану деңгейі </a:t>
            </a:r>
            <a:r>
              <a:rPr b="0" lang="kk-KZ" sz="1200" spc="-1" strike="noStrike">
                <a:solidFill>
                  <a:srgbClr val="000000"/>
                </a:solidFill>
                <a:latin typeface="Times New Roman"/>
                <a:ea typeface="Arial"/>
              </a:rPr>
              <a:t>төмен </a:t>
            </a:r>
            <a:r>
              <a:rPr b="0" lang="kk-KZ"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TextBox 13"/>
          <p:cNvSpPr/>
          <p:nvPr/>
        </p:nvSpPr>
        <p:spPr>
          <a:xfrm>
            <a:off x="5095800" y="35002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187200" y="1019160"/>
            <a:ext cx="46310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6T09:14:13Z</dcterms:modified>
  <cp:revision>283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