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907588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B42E9-C8F5-4DFF-8DB2-316947754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9F73F-E938-4E09-9099-091641F0F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0C022-B284-4899-889E-2217CF27F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50C0D-EE82-4184-8D2D-6057863FF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22640-2A51-4C7C-B76C-6613ED305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6C40F-9EB3-4F84-9D5E-096D92310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AC293-6439-4D2C-ACC7-2C5E0D62A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D8769-F1CE-4A46-B092-9D08C2F9C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C638E-9C27-447A-9C4D-76B42A4D3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FB398-D6F3-439A-B666-6A49D5484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E8453-C9B2-4431-818C-10BE37032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4FF6F-EB3D-4C95-B559-C54715C6C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F802A-0B90-4DB4-B1BC-F3C2F3910F4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3"/>
          <p:cNvSpPr/>
          <p:nvPr/>
        </p:nvSpPr>
        <p:spPr>
          <a:xfrm>
            <a:off x="128520" y="115920"/>
            <a:ext cx="9648720" cy="66261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Прямая соединительная линия 12"/>
          <p:cNvSpPr/>
          <p:nvPr/>
        </p:nvSpPr>
        <p:spPr>
          <a:xfrm>
            <a:off x="4937040" y="115920"/>
            <a:ext cx="15840" cy="66247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4520" y="6392880"/>
          <a:ext cx="4465440" cy="347760"/>
        </p:xfrm>
        <a:graphic>
          <a:graphicData uri="http://schemas.openxmlformats.org/drawingml/2006/table">
            <a:tbl>
              <a:tblPr/>
              <a:tblGrid>
                <a:gridCol w="4465440"/>
              </a:tblGrid>
              <a:tr h="347760">
                <a:tc>
                  <a:txBody>
                    <a:bodyPr lIns="114480" rIns="1144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г. </a:t>
                      </a:r>
                      <a:r>
                        <a:rPr b="1" i="1" lang="ru-RU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Атырау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4480" marR="114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" name="TextBox 7"/>
          <p:cNvSpPr/>
          <p:nvPr/>
        </p:nvSpPr>
        <p:spPr>
          <a:xfrm>
            <a:off x="128520" y="216000"/>
            <a:ext cx="482436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Министерство экологии, геологии и природных ресурсов Республики Казахстан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РГП «КАЗГИДРОМЕТ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Рисунок 1" descr=""/>
          <p:cNvPicPr/>
          <p:nvPr/>
        </p:nvPicPr>
        <p:blipFill>
          <a:blip r:embed="rId1"/>
          <a:srcRect l="0" t="17821" r="0" b="17471"/>
          <a:stretch/>
        </p:blipFill>
        <p:spPr>
          <a:xfrm>
            <a:off x="1352520" y="1023840"/>
            <a:ext cx="2028960" cy="13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6" name=""/>
          <p:cNvGraphicFramePr/>
          <p:nvPr/>
        </p:nvGraphicFramePr>
        <p:xfrm>
          <a:off x="307800" y="2535120"/>
          <a:ext cx="4465800" cy="2179800"/>
        </p:xfrm>
        <a:graphic>
          <a:graphicData uri="http://schemas.openxmlformats.org/drawingml/2006/table">
            <a:tbl>
              <a:tblPr/>
              <a:tblGrid>
                <a:gridCol w="4465800"/>
              </a:tblGrid>
              <a:tr h="2179800">
                <a:tc>
                  <a:txBody>
                    <a:bodyPr lIns="114480" rIns="1144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ЕЖЕДНЕВНЫЙ БЮЛЛЕТЕНЬ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СОСТОЯНИЯ ВОЗДУШНОГО БАССЕЙНА </a:t>
                      </a:r>
                      <a:r>
                        <a:rPr b="1" i="1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 №28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г. </a:t>
                      </a:r>
                      <a:r>
                        <a:rPr b="1" i="1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Атырау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宋体"/>
                        </a:rPr>
                        <a:t>16 октября </a:t>
                      </a:r>
                      <a:r>
                        <a:rPr b="1" i="1" lang="kk-KZ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宋体"/>
                        </a:rPr>
                        <a:t>2022 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4480" marR="114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" name="Прямоугольник 2"/>
          <p:cNvSpPr/>
          <p:nvPr/>
        </p:nvSpPr>
        <p:spPr>
          <a:xfrm>
            <a:off x="4952880" y="112680"/>
            <a:ext cx="482436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ноз погоды по г. Атыра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17 октябр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20 ч. 16 октября по 20 ч. 17 октября 2022 г.</a:t>
            </a:r>
            <a:r>
              <a:rPr b="0" lang="ru-RU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 осадков. Ветер северо-восточный 3-8 м/с. Температура воздуха ночью 2-4, днем 13-15 теп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18 октябр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20 ч. 17 октября по 08 ч. 18 октября 2022 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 осадков. Ветер северо-восточный 9-14 м/с. Температура воздуха ночью 0-2 теп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5140440" y="6527880"/>
          <a:ext cx="4730760" cy="212760"/>
        </p:xfrm>
        <a:graphic>
          <a:graphicData uri="http://schemas.openxmlformats.org/drawingml/2006/table">
            <a:tbl>
              <a:tblPr/>
              <a:tblGrid>
                <a:gridCol w="4730760"/>
              </a:tblGrid>
              <a:tr h="10692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ДК согласно «Санитарно-эпидемиологическим правилам и нормам к атмосферному воздуху» от 28.02.2015г №16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692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" name="Прямоугольник 21"/>
          <p:cNvSpPr/>
          <p:nvPr/>
        </p:nvSpPr>
        <p:spPr>
          <a:xfrm>
            <a:off x="4960800" y="3500280"/>
            <a:ext cx="4824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ояние атмосферного воздуха  г. Атыра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16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тября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22 год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5068800" y="4000680"/>
          <a:ext cx="4624560" cy="2527200"/>
        </p:xfrm>
        <a:graphic>
          <a:graphicData uri="http://schemas.openxmlformats.org/drawingml/2006/table">
            <a:tbl>
              <a:tblPr/>
              <a:tblGrid>
                <a:gridCol w="1812960"/>
                <a:gridCol w="1386000"/>
                <a:gridCol w="1425600"/>
              </a:tblGrid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грязняющее веществ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актическа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центрация, мкг/м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тность превышения ПД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вешенные частицы РМ-2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вешенные частицы РМ-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66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оксид сер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сид углерод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оксид азот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сид азот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роводор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ммиа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51" name="TextBox 15"/>
          <p:cNvSpPr/>
          <p:nvPr/>
        </p:nvSpPr>
        <p:spPr>
          <a:xfrm>
            <a:off x="5024520" y="3143160"/>
            <a:ext cx="4681440" cy="276480"/>
          </a:xfrm>
          <a:prstGeom prst="rect">
            <a:avLst/>
          </a:prstGeom>
          <a:solidFill>
            <a:srgbClr val="92d05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упреждение  1, 2, 3 степени НМУ отсутству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13"/>
          <p:cNvSpPr/>
          <p:nvPr/>
        </p:nvSpPr>
        <p:spPr>
          <a:xfrm>
            <a:off x="5024520" y="2071800"/>
            <a:ext cx="4681440" cy="1006560"/>
          </a:xfrm>
          <a:prstGeom prst="rect">
            <a:avLst/>
          </a:prstGeom>
          <a:solidFill>
            <a:srgbClr val="92d05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 октября, ночью 18 октября 2022 года метеорологические условия будут способствовать накоплению загрязняющих веществ в атмосфере город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целом по городу ожидается повышенный уровень загрязнения воздух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59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61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Прямоугольник 3"/>
          <p:cNvSpPr/>
          <p:nvPr/>
        </p:nvSpPr>
        <p:spPr>
          <a:xfrm>
            <a:off x="128520" y="115920"/>
            <a:ext cx="9648720" cy="66261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Прямая соединительная линия 12"/>
          <p:cNvSpPr/>
          <p:nvPr/>
        </p:nvSpPr>
        <p:spPr>
          <a:xfrm>
            <a:off x="4937040" y="115920"/>
            <a:ext cx="15840" cy="66247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Box 15"/>
          <p:cNvSpPr/>
          <p:nvPr/>
        </p:nvSpPr>
        <p:spPr>
          <a:xfrm>
            <a:off x="317520" y="246240"/>
            <a:ext cx="463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КОМЕНДАЦИИ ДЛЯ НАСЕЛЕНИЯ ПРИ НМУ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Прямоугольник 26"/>
          <p:cNvSpPr/>
          <p:nvPr/>
        </p:nvSpPr>
        <p:spPr>
          <a:xfrm>
            <a:off x="276120" y="4587840"/>
            <a:ext cx="4660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ороде Атырау наблюдения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уровнем загрязнения атмосферного воздуха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оводится на 5 постах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блюде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 № 1 – микрорайон Самал, улица А.Кекильбаева, 15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 № 5 – микрорайон Курсай, улица Карабау, строение 12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 № 6 – микрорайон Жулдыз, улица №6, 29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 № 8 - район Химпоселок, Сырдарья №3 (спец, школа для детей с нарушением речи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 № 9 - микрайон Береке, район промзоны Берек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Прямоугольник 13"/>
          <p:cNvSpPr/>
          <p:nvPr/>
        </p:nvSpPr>
        <p:spPr>
          <a:xfrm>
            <a:off x="4923000" y="92160"/>
            <a:ext cx="485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раметр «Р» является обобщённым показателем загрязнения воздуха по городу в целом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0" name="Группа 24"/>
          <p:cNvGrpSpPr/>
          <p:nvPr/>
        </p:nvGrpSpPr>
        <p:grpSpPr>
          <a:xfrm>
            <a:off x="5257800" y="4489560"/>
            <a:ext cx="4290840" cy="1747800"/>
            <a:chOff x="5257800" y="4489560"/>
            <a:chExt cx="4290840" cy="1747800"/>
          </a:xfrm>
        </p:grpSpPr>
        <p:pic>
          <p:nvPicPr>
            <p:cNvPr id="61" name="Таблица 25" descr=""/>
            <p:cNvPicPr/>
            <p:nvPr/>
          </p:nvPicPr>
          <p:blipFill>
            <a:blip r:embed="rId1"/>
            <a:stretch/>
          </p:blipFill>
          <p:spPr>
            <a:xfrm>
              <a:off x="5260680" y="5434560"/>
              <a:ext cx="4041720" cy="80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Прямоугольник 8"/>
            <p:cNvSpPr/>
            <p:nvPr/>
          </p:nvSpPr>
          <p:spPr>
            <a:xfrm>
              <a:off x="5271480" y="4672800"/>
              <a:ext cx="2125440" cy="79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г. Нур-Султан, ул. Мангилик ел 11/1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Прямоугольник 20"/>
            <p:cNvSpPr/>
            <p:nvPr/>
          </p:nvSpPr>
          <p:spPr>
            <a:xfrm>
              <a:off x="5257800" y="4489560"/>
              <a:ext cx="42908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Контакты: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4" name="Прямоугольник 11"/>
          <p:cNvSpPr/>
          <p:nvPr/>
        </p:nvSpPr>
        <p:spPr>
          <a:xfrm>
            <a:off x="5018040" y="6400800"/>
            <a:ext cx="4781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При использовании информации ссылка на РГП «Казгидромет» обязательна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Прямоугольник 1"/>
          <p:cNvSpPr/>
          <p:nvPr/>
        </p:nvSpPr>
        <p:spPr>
          <a:xfrm>
            <a:off x="5141880" y="6159600"/>
            <a:ext cx="45212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  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ил</a:t>
            </a:r>
            <a:r>
              <a:rPr b="1" i="1" lang="kk-KZ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а)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1" i="1" lang="kk-KZ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Қабдуалиева М.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4997520" y="528480"/>
          <a:ext cx="4703760" cy="816120"/>
        </p:xfrm>
        <a:graphic>
          <a:graphicData uri="http://schemas.openxmlformats.org/drawingml/2006/table">
            <a:tbl>
              <a:tblPr/>
              <a:tblGrid>
                <a:gridCol w="1035000"/>
                <a:gridCol w="3668760"/>
              </a:tblGrid>
              <a:tr h="16344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ритерий 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пределение уровня загрязн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30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 &lt; 0,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ниженны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30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22 ≤ Р &lt; 0,2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вышенны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30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29 ≤ Р &lt; 0,3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ысок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30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 ≥ 0,3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чень высок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7" name="Прямоугольник 30"/>
          <p:cNvSpPr/>
          <p:nvPr/>
        </p:nvSpPr>
        <p:spPr>
          <a:xfrm>
            <a:off x="4952880" y="1324080"/>
            <a:ext cx="4808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Расчет обобщённого показателя загрязнения воздуха по городу в целом и определение степени НМУ ведется согласно указаниям приведёнными в «Правилах предоставления информации о неблагоприятных метеорологических условиях, требований к составу и содержанию такой информации, порядка ее опубликования и предоставления заинтересованным лицам».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</a:t>
            </a:r>
            <a:r>
              <a:rPr b="0" i="1" lang="kk-KZ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дации параметра «Р» для каждого города РК индивидуальны, расчитываются на основе данных многолетних данных.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Прямоугольник 31"/>
          <p:cNvSpPr/>
          <p:nvPr/>
        </p:nvSpPr>
        <p:spPr>
          <a:xfrm>
            <a:off x="4952880" y="2106720"/>
            <a:ext cx="4786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ловия предоставления предупреждений о НМУ различной степе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5016600" y="2382840"/>
          <a:ext cx="4680000" cy="2225520"/>
        </p:xfrm>
        <a:graphic>
          <a:graphicData uri="http://schemas.openxmlformats.org/drawingml/2006/table">
            <a:tbl>
              <a:tblPr/>
              <a:tblGrid>
                <a:gridCol w="861840"/>
                <a:gridCol w="3818160"/>
              </a:tblGrid>
              <a:tr h="1375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епени НМУ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ловия предоставления предупреждени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83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степень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начение параметра «Р» соответствует высокой степени, а также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всех или на подавляющей части постах выполняется условие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ПДКм.р&lt; СИ &lt; 3ПДКм.р. или СИ ≥ 3ПДКм.р.</a:t>
                      </a:r>
                      <a:r>
                        <a:rPr b="0" lang="kk-KZ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;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ли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начение параметра «Р» соответствует очень высокой степени, но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всех или на подавляющей части постах выполняется условие </a:t>
                      </a:r>
                      <a:r>
                        <a:rPr b="0" lang="kk-KZ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 &lt; 3ПДКм.р.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степень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начение параметра «Р» соответствует очень высокой степени, а также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всех или на подавляющей части постах выполняется условие СИ ≥ 3ПДКм.р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42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степень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начение параметра «Р» соответствует очень высокой степени,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ечение двух суток подряд или более, а также всех или на подавляющей части постах выполняется условие СИ ≥ 5ПДКм.р.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0" name="TextBox 33"/>
          <p:cNvSpPr/>
          <p:nvPr/>
        </p:nvSpPr>
        <p:spPr>
          <a:xfrm>
            <a:off x="4960800" y="4602240"/>
            <a:ext cx="480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</a:t>
            </a:r>
            <a:r>
              <a:rPr b="0" i="1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кущая и прогнозируемая синоптическая ситуация и комплекс неблагоприятных метеорологических условий, способствуют дальнейшему накоплению загрязняющих веществ в атмосфере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Box 2"/>
          <p:cNvSpPr/>
          <p:nvPr/>
        </p:nvSpPr>
        <p:spPr>
          <a:xfrm>
            <a:off x="304920" y="700200"/>
            <a:ext cx="495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комендации отсутствую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27T06:03:00Z</dcterms:created>
  <dc:creator>Ольга Корнюхова</dc:creator>
  <dc:description/>
  <dc:language>en-US</dc:language>
  <cp:lastModifiedBy>Moldir Kabdualieva</cp:lastModifiedBy>
  <cp:lastPrinted>2022-06-26T09:30:29Z</cp:lastPrinted>
  <dcterms:modified xsi:type="dcterms:W3CDTF">2022-10-16T09:18:07Z</dcterms:modified>
  <cp:revision>2462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49-11.2.0.9144</vt:lpwstr>
  </property>
</Properties>
</file>