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93B9-A67F-4F7E-87AA-D8E8A2392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AB07-AF96-42CC-9A8C-39C6783A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45C4-EDF5-4E42-ADC8-3E73E113C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B606-4A71-4138-BA2E-79C1D5784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FE92-EE6F-42BA-BA37-5FBCD830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BC1D-0147-4A69-BDF3-CA69D5B2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DE53-B39E-4831-B32F-D9666474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FDB3-14B3-4DCD-B076-9546F23C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A09F-1B31-494B-B3FC-13E4486D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E2DC-A515-4F6E-9EC0-FEE20294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7223-5618-4FD8-959B-FA3E563A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E752-E3EE-4461-890A-1282F0FE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AD45-99AB-474D-973F-2FA83BBB97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4520" y="6392880"/>
          <a:ext cx="4465440" cy="347760"/>
        </p:xfrm>
        <a:graphic>
          <a:graphicData uri="http://schemas.openxmlformats.org/drawingml/2006/table">
            <a:tbl>
              <a:tblPr/>
              <a:tblGrid>
                <a:gridCol w="4465440"/>
              </a:tblGrid>
              <a:tr h="34776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Box 7"/>
          <p:cNvSpPr/>
          <p:nvPr/>
        </p:nvSpPr>
        <p:spPr>
          <a:xfrm>
            <a:off x="128520" y="216000"/>
            <a:ext cx="482436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инистерство экологии, геологии и природных ресурсов Республики Казахст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ГП «КАЗГИДРОМЕ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1" descr=""/>
          <p:cNvPicPr/>
          <p:nvPr/>
        </p:nvPicPr>
        <p:blipFill>
          <a:blip r:embed="rId1"/>
          <a:srcRect l="0" t="17821" r="0" b="17471"/>
          <a:stretch/>
        </p:blipFill>
        <p:spPr>
          <a:xfrm>
            <a:off x="1352520" y="1023840"/>
            <a:ext cx="2028960" cy="13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307800" y="2589120"/>
          <a:ext cx="4465800" cy="2208240"/>
        </p:xfrm>
        <a:graphic>
          <a:graphicData uri="http://schemas.openxmlformats.org/drawingml/2006/table">
            <a:tbl>
              <a:tblPr/>
              <a:tblGrid>
                <a:gridCol w="4465800"/>
              </a:tblGrid>
              <a:tr h="220824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ЕЖЕДНЕВНЫЙ БЮЛЛЕТЕНЬ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СТОЯНИЯ ВОЗДУШНОГО БАССЕЙНА </a:t>
                      </a:r>
                      <a:r>
                        <a:rPr b="1" i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№2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i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ст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16 октября </a:t>
                      </a:r>
                      <a:r>
                        <a:rPr b="1" i="1" lang="kk-KZ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2022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5175360" y="6543720"/>
          <a:ext cx="4730760" cy="314280"/>
        </p:xfrm>
        <a:graphic>
          <a:graphicData uri="http://schemas.openxmlformats.org/drawingml/2006/table">
            <a:tbl>
              <a:tblPr/>
              <a:tblGrid>
                <a:gridCol w="4730760"/>
              </a:tblGrid>
              <a:tr h="185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К согласно «Санитарно-эпидемиологическим правилам и нормам к атмосферному воздуху» от 28.02.2015г №16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5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Прямоугольник 21"/>
          <p:cNvSpPr/>
          <p:nvPr/>
        </p:nvSpPr>
        <p:spPr>
          <a:xfrm>
            <a:off x="4952880" y="3786120"/>
            <a:ext cx="480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атмосферного воздуха  г. Аст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октября 2022 г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15"/>
          <p:cNvSpPr/>
          <p:nvPr/>
        </p:nvSpPr>
        <p:spPr>
          <a:xfrm>
            <a:off x="5024520" y="115920"/>
            <a:ext cx="4714920" cy="2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погоды по г. Аст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7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т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1 ч. 16 октября 2022 г. до 21 ч. 17 октября 202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Переменная облачность, ночью небольшие осадки (дождь, мокрый снег), днем небольшой дождь. Ветер западный 9-14 м/с. Температура воздуха ночью 0-2, днем 6-8 теп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8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т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1 ч. 17 октября 2022 г. до 09 ч. 18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тябр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менная облачность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небольшие </a:t>
            </a:r>
            <a:r>
              <a:rPr b="0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адки (дождь, снег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етер западный, юго-западный  7-12 м/с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Температура воздуха 0-2 теп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024520" y="4214880"/>
          <a:ext cx="4667040" cy="2252520"/>
        </p:xfrm>
        <a:graphic>
          <a:graphicData uri="http://schemas.openxmlformats.org/drawingml/2006/table">
            <a:tbl>
              <a:tblPr/>
              <a:tblGrid>
                <a:gridCol w="1795320"/>
                <a:gridCol w="1433520"/>
                <a:gridCol w="1438200"/>
              </a:tblGrid>
              <a:tr h="419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рязняющее веществ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ая концентрация, мкг/м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ность ПД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2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се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углер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азо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азо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оводор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миа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TextBox 14"/>
          <p:cNvSpPr/>
          <p:nvPr/>
        </p:nvSpPr>
        <p:spPr>
          <a:xfrm>
            <a:off x="5024520" y="2357280"/>
            <a:ext cx="4714920" cy="82404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октябр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еорологические условия будут способствовать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еиванию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рязняющих веществ в атмосфере гор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ом по городу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октябр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идается пониженный уровень загрязнения воздух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5024520" y="3500280"/>
            <a:ext cx="4680000" cy="27648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1, 2, 3 степени НМУ отсутств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5"/>
          <p:cNvSpPr/>
          <p:nvPr/>
        </p:nvSpPr>
        <p:spPr>
          <a:xfrm>
            <a:off x="317520" y="246240"/>
            <a:ext cx="46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ДЛЯ НАСЕЛЕНИЯ ПРИ НМ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42920" y="4041720"/>
            <a:ext cx="480852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оде Астана наблюде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уровнем загрязнения атмосферного воздух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ится на 10 поста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1 – ул. Жамбула,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2 – проспект Республики, 35 (школ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3 – Телжан Шонанұлы 47, район лесозав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4 – ул. Лепсы, 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.Туран , 2/1  центральная спасательная стан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л. Акжол, район отстойника сточных вод «Астана Тазалы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л. Туркестан, 2/1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ФМШ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8 –  ул. Бабатайулы, д. 24, Коктал-1, Сарыаркинский рай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9 –  ул. А. Байтурсынова, 25, Мечеть Х.Султан, Алматинский рай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10 – ул. К. Мунайтпасова, 13, Алматинский рай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13"/>
          <p:cNvSpPr/>
          <p:nvPr/>
        </p:nvSpPr>
        <p:spPr>
          <a:xfrm>
            <a:off x="4952880" y="68400"/>
            <a:ext cx="48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 «Р» является обобщённым показателем загрязнения воздуха по городу в целом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Группа 24"/>
          <p:cNvGrpSpPr/>
          <p:nvPr/>
        </p:nvGrpSpPr>
        <p:grpSpPr>
          <a:xfrm>
            <a:off x="5153040" y="4922280"/>
            <a:ext cx="4546440" cy="1408680"/>
            <a:chOff x="5153040" y="4922280"/>
            <a:chExt cx="4546440" cy="1408680"/>
          </a:xfrm>
        </p:grpSpPr>
        <p:pic>
          <p:nvPicPr>
            <p:cNvPr id="59" name="Таблица 25" descr=""/>
            <p:cNvPicPr/>
            <p:nvPr/>
          </p:nvPicPr>
          <p:blipFill>
            <a:blip r:embed="rId1"/>
            <a:stretch/>
          </p:blipFill>
          <p:spPr>
            <a:xfrm>
              <a:off x="5157000" y="5526000"/>
              <a:ext cx="40417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Прямоугольник 8"/>
            <p:cNvSpPr/>
            <p:nvPr/>
          </p:nvSpPr>
          <p:spPr>
            <a:xfrm>
              <a:off x="5197320" y="4922280"/>
              <a:ext cx="187380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. Астана, ул. Мангилик ел 11/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Прямоугольник 20"/>
            <p:cNvSpPr/>
            <p:nvPr/>
          </p:nvSpPr>
          <p:spPr>
            <a:xfrm>
              <a:off x="5153040" y="5087160"/>
              <a:ext cx="454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такты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" name="Прямоугольник 11"/>
          <p:cNvSpPr/>
          <p:nvPr/>
        </p:nvSpPr>
        <p:spPr>
          <a:xfrm>
            <a:off x="5043600" y="6486480"/>
            <a:ext cx="478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и использовании информации ссылка на РГП «Казгидромет» обязательна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1"/>
          <p:cNvSpPr/>
          <p:nvPr/>
        </p:nvSpPr>
        <p:spPr>
          <a:xfrm>
            <a:off x="5051520" y="6330960"/>
            <a:ext cx="452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</a:t>
            </a:r>
            <a:r>
              <a:rPr b="1" i="1" lang="kk-K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)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абдуалиева М.С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19"/>
          <p:cNvSpPr/>
          <p:nvPr/>
        </p:nvSpPr>
        <p:spPr>
          <a:xfrm>
            <a:off x="4937040" y="1343160"/>
            <a:ext cx="484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Расчет обобщённого показателя загрязнения воздуха по городу в целом и определение степени НМУ ведется согласно указаниям приведёнными в «Правилах предоставления информации о неблагоприятных метеорологических условиях, требований к составу и содержанию такой информации, порядка ее опубликования и предоставления заинтересованным лицам»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i="1" lang="kk-K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ации параметра «Р» для каждого города РК индивидуальны, расчитываются на основе данных многолетних данн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018040" y="501480"/>
          <a:ext cx="4681440" cy="854280"/>
        </p:xfrm>
        <a:graphic>
          <a:graphicData uri="http://schemas.openxmlformats.org/drawingml/2006/table">
            <a:tbl>
              <a:tblPr/>
              <a:tblGrid>
                <a:gridCol w="1020960"/>
                <a:gridCol w="3660480"/>
              </a:tblGrid>
              <a:tr h="152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итерий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уровня загряз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3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&lt; 0,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нижен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2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7 ≤ Р &lt; 0,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вышен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37 ≤ Р &lt; 0,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3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≥ 0,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ень высо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" name="Прямоугольник 20"/>
          <p:cNvSpPr/>
          <p:nvPr/>
        </p:nvSpPr>
        <p:spPr>
          <a:xfrm>
            <a:off x="4952880" y="210024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предоставления предупреждений о НМУ различной степен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019840" y="2430360"/>
          <a:ext cx="4679640" cy="2225880"/>
        </p:xfrm>
        <a:graphic>
          <a:graphicData uri="http://schemas.openxmlformats.org/drawingml/2006/table">
            <a:tbl>
              <a:tblPr/>
              <a:tblGrid>
                <a:gridCol w="861840"/>
                <a:gridCol w="3817800"/>
              </a:tblGrid>
              <a:tr h="137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и НМ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предоставления предупрежде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ПДКм.р&lt; СИ &lt; 3ПДКм.р. или СИ ≥ 3ПДКм.р.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но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 &lt; 3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СИ ≥ 3ПДКм.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двух суток подряд или более, а также всех или на подавляющей части постах выполняется условие СИ ≥ 5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Прямоугольник 2"/>
          <p:cNvSpPr/>
          <p:nvPr/>
        </p:nvSpPr>
        <p:spPr>
          <a:xfrm>
            <a:off x="4970520" y="4627440"/>
            <a:ext cx="47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и прогнозируемая синоптическая ситуация и комплекс неблагоприятных метеорологических условий, способствуют дальнейшему накоплению загрязняющих веществ в атмосфер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Объект 2"/>
          <p:cNvSpPr/>
          <p:nvPr/>
        </p:nvSpPr>
        <p:spPr>
          <a:xfrm>
            <a:off x="142920" y="689040"/>
            <a:ext cx="4827600" cy="17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кратить время пребывания на открытом воздухе, особенно вблизи автотрасс или других источников загрязнения. Детям и беременным женщинам следует отказаться от длительных прогулок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юдям, страдающим хроническими заболеваниями легких, сердечно-сосудистыми, аллергическими заболеваниями, при нахождении на открытом воздухе, необходимо иметь при себе необходимые лекарственные препараты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граничить физическую нагрузку на открытом воздухе. Занятие физкультурой и спортом проводить в закрытых спортивных комплек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7T06:03:00Z</dcterms:created>
  <dc:creator>Ольга Корнюхова</dc:creator>
  <dc:description/>
  <dc:language>en-US</dc:language>
  <cp:lastModifiedBy>Moldir Kabdualieva</cp:lastModifiedBy>
  <cp:lastPrinted>2021-07-01T07:38:07Z</cp:lastPrinted>
  <dcterms:modified xsi:type="dcterms:W3CDTF">2022-10-16T09:14:22Z</dcterms:modified>
  <cp:revision>277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1.2.0.9144</vt:lpwstr>
  </property>
</Properties>
</file>