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169-C4F9-4584-ABD8-8DEDBA95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A52-E43A-4B94-824E-C2965A40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3D4-4115-44E0-BB40-72C6A4EB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5CA-33CC-4EBC-9D6C-586B52C0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8D4-1963-468F-9B99-F5510C87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984-661E-4F9B-8164-3CACFE44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EAA-1CC0-4252-A6C1-804DF91A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C3B-6892-44DE-9851-0EAD79C0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725-FE8E-416B-9C84-880854D0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B5E-258A-4F07-8115-F5AAB2C5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A0D-EC44-4AA2-BE5C-90BC03F9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711-D35A-4732-8818-B373BFA6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76E4-E02E-4E93-AE72-23B50AFEB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15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6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15 октября по 20 ч. 16 окт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северный, северо-восточный 6-11 м/с. Температура воздуха ночью 3-5, днем 13-15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7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16 октября по 08 ч. 17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северо-восточный 5-10 м/с. Температура воздуха ночью 0-2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5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e46c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октября, ночью 17 октября 2022 года метеорологические условия будут способствовать накопле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выш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5"/>
          <p:cNvGrpSpPr/>
          <p:nvPr/>
        </p:nvGrpSpPr>
        <p:grpSpPr>
          <a:xfrm>
            <a:off x="112680" y="246240"/>
            <a:ext cx="4840200" cy="2304360"/>
            <a:chOff x="112680" y="246240"/>
            <a:chExt cx="4840200" cy="2304360"/>
          </a:xfrm>
        </p:grpSpPr>
        <p:sp>
          <p:nvSpPr>
            <p:cNvPr id="58" name="TextBox 15"/>
            <p:cNvSpPr/>
            <p:nvPr/>
          </p:nvSpPr>
          <p:spPr>
            <a:xfrm>
              <a:off x="317160" y="246240"/>
              <a:ext cx="46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АЦИИ ДЛЯ НАСЕЛЕНИЯ ПРИ НМУ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16"/>
            <p:cNvSpPr/>
            <p:nvPr/>
          </p:nvSpPr>
          <p:spPr>
            <a:xfrm>
              <a:off x="112680" y="555120"/>
              <a:ext cx="4810320" cy="19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сократить время пребывания на открытом воздухе, особенно вблизи автотрасс или других источников загрязнения. Детям и беременным женщинам следует отказаться от длительных прогулок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людям, страдающим хроническими заболеваниями легких, сердечно-сосудистыми, аллергическими заболеваниями, при нахождении на открытом воздухе, необходимо иметь при себе необходимые лекарственные препараты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ограничить физическую нагрузку на открытом воздухе. Занятие физкультурой и спортом проводить в закрытых спортивных комплексах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3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5141880" y="615960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Қабдуалие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2-06-26T09:30:29Z</cp:lastPrinted>
  <dcterms:modified xsi:type="dcterms:W3CDTF">2022-10-15T08:05:33Z</dcterms:modified>
  <cp:revision>245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