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31C-E36C-4FE1-AE2F-E90B450E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B3F-6661-4CDD-B1FA-95F720B2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0B4-57A5-4CE8-A26C-86FB0CD6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E7F-2B11-45D0-A796-B6C28332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089-8084-4C8E-B36B-475C8B8D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D57-51D3-4C0C-9B4F-A1832D72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870-E217-4DB1-A59A-B048BE2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611-1B08-4579-B221-73B028EA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87A-818C-4B93-9A3D-61FA2CDD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69E-43B9-405A-828A-F5CD949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304-15E0-4D79-BA59-505CF5F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E93-9452-4D58-9287-A4EC273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7264-EC4B-4C4F-849D-309433E91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15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4952880" y="378612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5 октября 2022 г. до 21 ч. 16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еременная облачность, днем временами дождь. Ветер северо-западный 7-12 м/с. Температура воздуха ночью 4-6, днем 13-15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16 октября 2022 г. до 09 ч. 17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ки (дождь, снег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тер северо-западный, западный 9-14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100656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и утром 16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и утром 16 октябр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тся повыш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50028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ъект 2"/>
          <p:cNvSpPr/>
          <p:nvPr/>
        </p:nvSpPr>
        <p:spPr>
          <a:xfrm>
            <a:off x="142920" y="689040"/>
            <a:ext cx="4827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15T08:59:35Z</dcterms:modified>
  <cp:revision>27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