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31814-5705-4D6A-A10D-D6AC152FA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A1028-1D7E-4E32-BBF3-9DAA84FF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8B993-FFB8-4B77-BB5A-5D8AD7D8D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5DFF4-8110-4A95-A55E-329BC798D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47B0B-103B-4888-A256-D1C192865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52F0C-7365-4731-9547-40A621FEB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968AD-412A-4448-9E63-C3270A83F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2CD9E-22BE-4B0D-9118-8E15FA9E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E9FD7-8AB9-42D6-886B-CA1493CC0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05DBD-4179-4EC5-A07A-CE1A9B283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19B6-FA49-40D4-9E3F-AC108F44C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4E44-ACC7-4D13-9E81-FC92BE9B4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81FF-2F28-4077-B6EA-0E62F02C119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88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15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5 қазан сағ. 21-ден 16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10-12, күндіз 23-25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17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16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17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6-8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7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71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3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0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15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16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17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көтеріңкі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73160" y="328608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307800" y="779400"/>
            <a:ext cx="43768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15T08:00:56Z</dcterms:modified>
  <cp:revision>2758</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