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592F-73C5-497E-BCDA-CBFE7A7DB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F4D7-C0E6-4220-9D89-EEFA189B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6792-FC73-4B2D-8D86-983197F2A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CFD6-DD2B-4919-8EAE-525FA937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0DC1-B950-45AE-AD7C-E82E8F9E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E528-2143-4BB1-9A9B-34AE4E7B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39F3-BF13-455E-A6A0-C4935394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F96D-6477-4712-8CCC-0170D27E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BCCF-2634-4302-AFBF-61D7F590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BAC1-FEB3-4B3A-BBF8-98D45943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F6AF-8D77-4E38-9EF2-2560BD86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F444-9EDD-4D79-BE42-2F172590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35A8-A2A4-49F4-BE41-3FC13F6D00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4520" y="6392880"/>
          <a:ext cx="4465440" cy="347760"/>
        </p:xfrm>
        <a:graphic>
          <a:graphicData uri="http://schemas.openxmlformats.org/drawingml/2006/table">
            <a:tbl>
              <a:tblPr/>
              <a:tblGrid>
                <a:gridCol w="4465440"/>
              </a:tblGrid>
              <a:tr h="3477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тыра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7"/>
          <p:cNvSpPr/>
          <p:nvPr/>
        </p:nvSpPr>
        <p:spPr>
          <a:xfrm>
            <a:off x="128520" y="216000"/>
            <a:ext cx="4824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инистерство экологии, геологии и природных ресурсов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ГП «КАЗГИДРОМ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rcRect l="0" t="17821" r="0" b="17471"/>
          <a:stretch/>
        </p:blipFill>
        <p:spPr>
          <a:xfrm>
            <a:off x="1352520" y="1023840"/>
            <a:ext cx="2028960" cy="13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307800" y="2535120"/>
          <a:ext cx="4465800" cy="2179800"/>
        </p:xfrm>
        <a:graphic>
          <a:graphicData uri="http://schemas.openxmlformats.org/drawingml/2006/table">
            <a:tbl>
              <a:tblPr/>
              <a:tblGrid>
                <a:gridCol w="4465800"/>
              </a:tblGrid>
              <a:tr h="217980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ЖЕДНЕВНЫЙ БЮЛЛЕТЕНЬ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ОЯНИЯ ВОЗДУШНОГО БАССЕЙНА </a:t>
                      </a: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№2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тыра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08 октября </a:t>
                      </a:r>
                      <a:r>
                        <a:rPr b="1" i="1" lang="kk-KZ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022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Прямоугольник 2"/>
          <p:cNvSpPr/>
          <p:nvPr/>
        </p:nvSpPr>
        <p:spPr>
          <a:xfrm>
            <a:off x="4952880" y="112680"/>
            <a:ext cx="48243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погоды по г. Атыр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09 окт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 ч. 08 октября по 20 ч. 09 октября 2022 г.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садков. Ветер юго-восточный ночью 0-5, днем 5-10 м/с. Температура воздуха ночью 6-8, днем 18-20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0 окт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 ч. 09 октября по 08 ч. 10 октября 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садков. Ветер юго-восточный 9-14, порывы 15-20 м/с. Температура воздуха ночью 12-14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140440" y="6527880"/>
          <a:ext cx="4730760" cy="212760"/>
        </p:xfrm>
        <a:graphic>
          <a:graphicData uri="http://schemas.openxmlformats.org/drawingml/2006/table">
            <a:tbl>
              <a:tblPr/>
              <a:tblGrid>
                <a:gridCol w="4730760"/>
              </a:tblGrid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 согласно «Санитарно-эпидемиологическим правилам и нормам к атмосферному воздуху» от 28.02.2015г №1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Прямоугольник 21"/>
          <p:cNvSpPr/>
          <p:nvPr/>
        </p:nvSpPr>
        <p:spPr>
          <a:xfrm>
            <a:off x="4960800" y="3500280"/>
            <a:ext cx="48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атмосферного воздуха  г. Атыр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08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68800" y="4000680"/>
          <a:ext cx="4624560" cy="2527200"/>
        </p:xfrm>
        <a:graphic>
          <a:graphicData uri="http://schemas.openxmlformats.org/drawingml/2006/table">
            <a:tbl>
              <a:tblPr/>
              <a:tblGrid>
                <a:gridCol w="1812960"/>
                <a:gridCol w="1386000"/>
                <a:gridCol w="1425600"/>
              </a:tblGrid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язняющее веще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ия, мкг/м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ность превышения ПД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6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се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углер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аз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аз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15"/>
          <p:cNvSpPr/>
          <p:nvPr/>
        </p:nvSpPr>
        <p:spPr>
          <a:xfrm>
            <a:off x="5024520" y="3143160"/>
            <a:ext cx="4681440" cy="27648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 1, 2, 3 степени НМУ отсут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5024520" y="2071800"/>
            <a:ext cx="4681440" cy="1006560"/>
          </a:xfrm>
          <a:prstGeom prst="rect">
            <a:avLst/>
          </a:prstGeom>
          <a:solidFill>
            <a:srgbClr val="e46c0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 октября, ночью 10 октября 2022 года метеорологические условия будут способствовать накоплению загрязняющих веществ в атмосфере го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ом по городу ожидается пониженный уровень загрязнения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59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61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Группа 5"/>
          <p:cNvGrpSpPr/>
          <p:nvPr/>
        </p:nvGrpSpPr>
        <p:grpSpPr>
          <a:xfrm>
            <a:off x="112680" y="246240"/>
            <a:ext cx="4840200" cy="2304360"/>
            <a:chOff x="112680" y="246240"/>
            <a:chExt cx="4840200" cy="2304360"/>
          </a:xfrm>
        </p:grpSpPr>
        <p:sp>
          <p:nvSpPr>
            <p:cNvPr id="58" name="TextBox 15"/>
            <p:cNvSpPr/>
            <p:nvPr/>
          </p:nvSpPr>
          <p:spPr>
            <a:xfrm>
              <a:off x="317160" y="246240"/>
              <a:ext cx="463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КОМЕНДАЦИИ ДЛЯ НАСЕЛЕНИЯ ПРИ НМУ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TextBox 16"/>
            <p:cNvSpPr/>
            <p:nvPr/>
          </p:nvSpPr>
          <p:spPr>
            <a:xfrm>
              <a:off x="112680" y="555120"/>
              <a:ext cx="4810320" cy="19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176040" algn="just"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сократить время пребывания на открытом воздухе, особенно вблизи автотрасс или других источников загрязнения. Детям и беременным женщинам следует отказаться от длительных прогулок;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6040" algn="just"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людям, страдающим хроническими заболеваниями легких, сердечно-сосудистыми, аллергическими заболеваниями, при нахождении на открытом воздухе, необходимо иметь при себе необходимые лекарственные препараты;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6040" algn="just"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ограничить физическую нагрузку на открытом воздухе. Занятие физкультурой и спортом проводить в закрытых спортивных комплексах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" name="Прямоугольник 26"/>
          <p:cNvSpPr/>
          <p:nvPr/>
        </p:nvSpPr>
        <p:spPr>
          <a:xfrm>
            <a:off x="276120" y="4587840"/>
            <a:ext cx="4660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Атырау наблюд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ровнем загрязнения атмосферного воздух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тся на 5 поста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 – микрорайон Самал, улица А.Кекильбаева, 15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5 – микрорайон Курсай, улица Карабау, строение 1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6 – микрорайон Жулдыз, улица №6, 29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8 - район Химпоселок, Сырдарья №3 (спец, школа для детей с нарушением реч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9 - микрайон Береке, район промзоны Бере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13"/>
          <p:cNvSpPr/>
          <p:nvPr/>
        </p:nvSpPr>
        <p:spPr>
          <a:xfrm>
            <a:off x="4923000" y="92160"/>
            <a:ext cx="48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 «Р» является обобщённым показателем загрязнения воздуха по городу в цело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Группа 24"/>
          <p:cNvGrpSpPr/>
          <p:nvPr/>
        </p:nvGrpSpPr>
        <p:grpSpPr>
          <a:xfrm>
            <a:off x="5257800" y="4489560"/>
            <a:ext cx="4290840" cy="1747800"/>
            <a:chOff x="5257800" y="4489560"/>
            <a:chExt cx="4290840" cy="1747800"/>
          </a:xfrm>
        </p:grpSpPr>
        <p:pic>
          <p:nvPicPr>
            <p:cNvPr id="63" name="Таблица 25" descr=""/>
            <p:cNvPicPr/>
            <p:nvPr/>
          </p:nvPicPr>
          <p:blipFill>
            <a:blip r:embed="rId1"/>
            <a:stretch/>
          </p:blipFill>
          <p:spPr>
            <a:xfrm>
              <a:off x="5260680" y="5434560"/>
              <a:ext cx="4041720" cy="80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Прямоугольник 8"/>
            <p:cNvSpPr/>
            <p:nvPr/>
          </p:nvSpPr>
          <p:spPr>
            <a:xfrm>
              <a:off x="5271480" y="4672800"/>
              <a:ext cx="21254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. Нур-Султан, ул. Мангилик ел 11/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Прямоугольник 20"/>
            <p:cNvSpPr/>
            <p:nvPr/>
          </p:nvSpPr>
          <p:spPr>
            <a:xfrm>
              <a:off x="5257800" y="4489560"/>
              <a:ext cx="4290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акты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Прямоугольник 11"/>
          <p:cNvSpPr/>
          <p:nvPr/>
        </p:nvSpPr>
        <p:spPr>
          <a:xfrm>
            <a:off x="5018040" y="6400800"/>
            <a:ext cx="478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 использовании информации ссылка на РГП «Казгидромет» обязательн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5141880" y="6159600"/>
            <a:ext cx="452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</a:t>
            </a: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Қабдуалиева М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997520" y="528480"/>
          <a:ext cx="4703760" cy="816120"/>
        </p:xfrm>
        <a:graphic>
          <a:graphicData uri="http://schemas.openxmlformats.org/drawingml/2006/table">
            <a:tbl>
              <a:tblPr/>
              <a:tblGrid>
                <a:gridCol w="1035000"/>
                <a:gridCol w="3668760"/>
              </a:tblGrid>
              <a:tr h="16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й 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 уровня загряз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&lt; 0,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ниж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2 ≤ Р &lt; 0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ыш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9 ≤ Р &lt;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≥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ень вы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Прямоугольник 30"/>
          <p:cNvSpPr/>
          <p:nvPr/>
        </p:nvSpPr>
        <p:spPr>
          <a:xfrm>
            <a:off x="4952880" y="1324080"/>
            <a:ext cx="480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Расчет обобщённого показателя загрязнения воздуха по городу в целом и определение степени НМУ ведется согласно указаниям приведёнными в «Правилах предоставления информации о неблагоприятных метеорологических условиях, требований к составу и содержанию такой информации, порядка ее опубликования и предоставления заинтересованным лицам»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i="1" lang="kk-K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ции параметра «Р» для каждого города РК индивидуальны, расчитываются на основе данных многолетних данн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31"/>
          <p:cNvSpPr/>
          <p:nvPr/>
        </p:nvSpPr>
        <p:spPr>
          <a:xfrm>
            <a:off x="4952880" y="2106720"/>
            <a:ext cx="47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предоставления предупреждений о НМУ различной степ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016600" y="2382840"/>
          <a:ext cx="4680000" cy="2225520"/>
        </p:xfrm>
        <a:graphic>
          <a:graphicData uri="http://schemas.openxmlformats.org/drawingml/2006/table">
            <a:tbl>
              <a:tblPr/>
              <a:tblGrid>
                <a:gridCol w="861840"/>
                <a:gridCol w="3818160"/>
              </a:tblGrid>
              <a:tr h="13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и Н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предоставления предупрежд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ПДКм.р&lt; СИ &lt; 3ПДКм.р. или СИ ≥ 3ПДКм.р.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но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 &lt; 3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СИ ≥ 3ПДКм.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двух суток подряд или более, а также всех или на подавляющей части постах выполняется условие СИ ≥ 5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TextBox 33"/>
          <p:cNvSpPr/>
          <p:nvPr/>
        </p:nvSpPr>
        <p:spPr>
          <a:xfrm>
            <a:off x="4960800" y="4602240"/>
            <a:ext cx="480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прогнозируемая синоптическая ситуация и комплекс неблагоприятных метеорологических условий, способствуют дальнейшему накоплению загрязняющих веществ в атмосфер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06:03:00Z</dcterms:created>
  <dc:creator>Ольга Корнюхова</dc:creator>
  <dc:description/>
  <dc:language>en-US</dc:language>
  <cp:lastModifiedBy>Moldir Kabdualieva</cp:lastModifiedBy>
  <cp:lastPrinted>2022-06-26T09:30:29Z</cp:lastPrinted>
  <dcterms:modified xsi:type="dcterms:W3CDTF">2022-10-08T07:59:03Z</dcterms:modified>
  <cp:revision>244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144</vt:lpwstr>
  </property>
</Properties>
</file>