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9F2A-C13F-4F4C-BC08-1CCC68DEF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F728-AD4E-4F9F-823E-554964F9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8214-4D55-4177-B88D-B3244D9D0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628C-E39E-45EC-BA20-12EFB930D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588D-A925-40A0-A2F3-C4BEC71B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A80C-F345-417C-AB85-AB6A5ACC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DB37-04B8-42B8-AD80-2E4581F6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4151-5DE2-4762-B573-90A77D4E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D479-F70C-4597-8E61-80CE31AF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440E-DAEA-408F-93F9-5073D9BC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6DDE-DCCF-4B78-9941-0ED7A75F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9D41-D475-4B85-A854-38B6734A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3D50-7D04-42BB-87A3-77560D7779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4520" y="6392880"/>
          <a:ext cx="4465440" cy="347760"/>
        </p:xfrm>
        <a:graphic>
          <a:graphicData uri="http://schemas.openxmlformats.org/drawingml/2006/table">
            <a:tbl>
              <a:tblPr/>
              <a:tblGrid>
                <a:gridCol w="4465440"/>
              </a:tblGrid>
              <a:tr h="3477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7"/>
          <p:cNvSpPr/>
          <p:nvPr/>
        </p:nvSpPr>
        <p:spPr>
          <a:xfrm>
            <a:off x="128520" y="216000"/>
            <a:ext cx="4824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инистерство экологии, геологии и природных ресурсов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ГП «КАЗГИДРОМ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rcRect l="0" t="17821" r="0" b="17471"/>
          <a:stretch/>
        </p:blipFill>
        <p:spPr>
          <a:xfrm>
            <a:off x="1352520" y="1023840"/>
            <a:ext cx="2028960" cy="13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307800" y="2589120"/>
          <a:ext cx="4465800" cy="2208240"/>
        </p:xfrm>
        <a:graphic>
          <a:graphicData uri="http://schemas.openxmlformats.org/drawingml/2006/table">
            <a:tbl>
              <a:tblPr/>
              <a:tblGrid>
                <a:gridCol w="4465800"/>
              </a:tblGrid>
              <a:tr h="220824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ЖЕДНЕВНЫЙ БЮЛЛЕТЕНЬ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ОЯНИЯ ВОЗДУШНОГО БАССЕЙНА </a:t>
                      </a: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№2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08 октября </a:t>
                      </a:r>
                      <a:r>
                        <a:rPr b="1" i="1" lang="kk-KZ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022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175360" y="6543720"/>
          <a:ext cx="4730760" cy="314280"/>
        </p:xfrm>
        <a:graphic>
          <a:graphicData uri="http://schemas.openxmlformats.org/drawingml/2006/table">
            <a:tbl>
              <a:tblPr/>
              <a:tblGrid>
                <a:gridCol w="4730760"/>
              </a:tblGrid>
              <a:tr h="185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 согласно «Санитарно-эпидемиологическим правилам и нормам к атмосферному воздуху» от 28.02.2015г №1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Прямоугольник 21"/>
          <p:cNvSpPr/>
          <p:nvPr/>
        </p:nvSpPr>
        <p:spPr>
          <a:xfrm>
            <a:off x="4952880" y="3786120"/>
            <a:ext cx="480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атмосферного воздуха  г. Аст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 октября 2022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5"/>
          <p:cNvSpPr/>
          <p:nvPr/>
        </p:nvSpPr>
        <p:spPr>
          <a:xfrm>
            <a:off x="5024520" y="115920"/>
            <a:ext cx="4714920" cy="22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погоды по г. Аст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09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т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1 ч. 08 октября 2022 г. до 21 ч. 09 октября 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нная облачность, временами дождь. Ветер западный, северо-западный 9-14, порывы 15-20 м/с. Температура воздуха ночью  3-5, днем 6-8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0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т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1 ч. 09 октября до 09 ч. 10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т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нная облачность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осадки (дождь с переходом в  снег). Ветер западный, юго-западный 9-14 м/с. Температура воздуха 2-4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24520" y="4214880"/>
          <a:ext cx="4667040" cy="2252520"/>
        </p:xfrm>
        <a:graphic>
          <a:graphicData uri="http://schemas.openxmlformats.org/drawingml/2006/table">
            <a:tbl>
              <a:tblPr/>
              <a:tblGrid>
                <a:gridCol w="1795320"/>
                <a:gridCol w="1433520"/>
                <a:gridCol w="1438200"/>
              </a:tblGrid>
              <a:tr h="419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язняющее веществ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ая концентрация, мкг/м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ность ПД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2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се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углер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азо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азо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14"/>
          <p:cNvSpPr/>
          <p:nvPr/>
        </p:nvSpPr>
        <p:spPr>
          <a:xfrm>
            <a:off x="5024520" y="2357280"/>
            <a:ext cx="4714920" cy="82404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еорологические условия будут способствовать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еиванию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загрязняющих веществ в атмосфере го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ом по городу ожидается повышенный уровень загрязнения воздух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5024520" y="3500280"/>
            <a:ext cx="4680000" cy="27648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1, 2, 3 степени НМУ отсут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317520" y="246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ДЛЯ НАСЕЛЕНИЯ ПРИ НМ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42920" y="4041720"/>
            <a:ext cx="48085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Астана наблюд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ровнем загрязнения атмосферного воздух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тся на 10 поста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 – ул. Жамбула,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2 – проспект Республики, 35 (школ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3 – Телжан Шонанұлы 47, район лесозав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4 – ул. Лепсы, 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.Туран , 2/1  центральная спасательная ста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л. Акжол, район отстойника сточных вод «Астана Тазалы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л. Туркестан, 2/1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ФМШ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8 –  ул. Бабатайулы, д. 24, Коктал-1, Сарыарк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9 –  ул. А. Байтурсынова, 25, Мечеть Х.Султан, Алмат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0 – ул. К. Мунайтпасова, 13, Алмат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13"/>
          <p:cNvSpPr/>
          <p:nvPr/>
        </p:nvSpPr>
        <p:spPr>
          <a:xfrm>
            <a:off x="4952880" y="68400"/>
            <a:ext cx="48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 «Р» является обобщённым показателем загрязнения воздуха по городу в цело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Группа 24"/>
          <p:cNvGrpSpPr/>
          <p:nvPr/>
        </p:nvGrpSpPr>
        <p:grpSpPr>
          <a:xfrm>
            <a:off x="5153040" y="4922280"/>
            <a:ext cx="4546440" cy="1408680"/>
            <a:chOff x="5153040" y="4922280"/>
            <a:chExt cx="4546440" cy="1408680"/>
          </a:xfrm>
        </p:grpSpPr>
        <p:pic>
          <p:nvPicPr>
            <p:cNvPr id="59" name="Таблица 25" descr=""/>
            <p:cNvPicPr/>
            <p:nvPr/>
          </p:nvPicPr>
          <p:blipFill>
            <a:blip r:embed="rId1"/>
            <a:stretch/>
          </p:blipFill>
          <p:spPr>
            <a:xfrm>
              <a:off x="5157000" y="5526000"/>
              <a:ext cx="40417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Прямоугольник 8"/>
            <p:cNvSpPr/>
            <p:nvPr/>
          </p:nvSpPr>
          <p:spPr>
            <a:xfrm>
              <a:off x="5197320" y="4922280"/>
              <a:ext cx="187380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. Астана, ул. Мангилик ел 11/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Прямоугольник 20"/>
            <p:cNvSpPr/>
            <p:nvPr/>
          </p:nvSpPr>
          <p:spPr>
            <a:xfrm>
              <a:off x="5153040" y="5087160"/>
              <a:ext cx="454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акты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Прямоугольник 11"/>
          <p:cNvSpPr/>
          <p:nvPr/>
        </p:nvSpPr>
        <p:spPr>
          <a:xfrm>
            <a:off x="5043600" y="6486480"/>
            <a:ext cx="478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 использовании информации ссылка на РГП «Казгидромет» обязательн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1"/>
          <p:cNvSpPr/>
          <p:nvPr/>
        </p:nvSpPr>
        <p:spPr>
          <a:xfrm>
            <a:off x="5051520" y="6330960"/>
            <a:ext cx="452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</a:t>
            </a:r>
            <a:r>
              <a:rPr b="1" i="1" lang="kk-K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kk-K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бдуалиева М.С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19"/>
          <p:cNvSpPr/>
          <p:nvPr/>
        </p:nvSpPr>
        <p:spPr>
          <a:xfrm>
            <a:off x="4937040" y="1343160"/>
            <a:ext cx="484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Расчет обобщённого показателя загрязнения воздуха по городу в целом и определение степени НМУ ведется согласно указаниям приведёнными в «Правилах предоставления информации о неблагоприятных метеорологических условиях, требований к составу и содержанию такой информации, порядка ее опубликования и предоставления заинтересованным лицам»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i="1" lang="kk-K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ции параметра «Р» для каждого города РК индивидуальны, расчитываются на основе данных многолетних данн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018040" y="501480"/>
          <a:ext cx="4681440" cy="854280"/>
        </p:xfrm>
        <a:graphic>
          <a:graphicData uri="http://schemas.openxmlformats.org/drawingml/2006/table">
            <a:tbl>
              <a:tblPr/>
              <a:tblGrid>
                <a:gridCol w="1020960"/>
                <a:gridCol w="3660480"/>
              </a:tblGrid>
              <a:tr h="152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терий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уровня загряз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&lt; 0,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нижен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7 ≤ Р &lt;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ышен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37 ≤ Р &lt; 0,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≥ 0,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нь высо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Прямоугольник 20"/>
          <p:cNvSpPr/>
          <p:nvPr/>
        </p:nvSpPr>
        <p:spPr>
          <a:xfrm>
            <a:off x="4952880" y="21002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предоставления предупреждений о НМУ различной степен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019840" y="2430360"/>
          <a:ext cx="4679640" cy="2225880"/>
        </p:xfrm>
        <a:graphic>
          <a:graphicData uri="http://schemas.openxmlformats.org/drawingml/2006/table">
            <a:tbl>
              <a:tblPr/>
              <a:tblGrid>
                <a:gridCol w="861840"/>
                <a:gridCol w="3817800"/>
              </a:tblGrid>
              <a:tr h="13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и Н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предоставления предупрежд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ПДКм.р&lt; СИ &lt; 3ПДКм.р. или СИ ≥ 3ПДКм.р.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но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 &lt; 3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СИ ≥ 3ПДКм.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двух суток подряд или более, а также всех или на подавляющей части постах выполняется условие СИ ≥ 5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Прямоугольник 2"/>
          <p:cNvSpPr/>
          <p:nvPr/>
        </p:nvSpPr>
        <p:spPr>
          <a:xfrm>
            <a:off x="4970520" y="4627440"/>
            <a:ext cx="47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прогнозируемая синоптическая ситуация и комплекс неблагоприятных метеорологических условий, способствуют дальнейшему накоплению загрязняющих веществ в атмосфер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19"/>
          <p:cNvSpPr/>
          <p:nvPr/>
        </p:nvSpPr>
        <p:spPr>
          <a:xfrm>
            <a:off x="231840" y="789120"/>
            <a:ext cx="471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отсутству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06:03:00Z</dcterms:created>
  <dc:creator>Ольга Корнюхова</dc:creator>
  <dc:description/>
  <dc:language>en-US</dc:language>
  <cp:lastModifiedBy>Moldir Kabdualieva</cp:lastModifiedBy>
  <cp:lastPrinted>2021-07-01T07:38:07Z</cp:lastPrinted>
  <dcterms:modified xsi:type="dcterms:W3CDTF">2022-10-08T07:56:00Z</dcterms:modified>
  <cp:revision>274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144</vt:lpwstr>
  </property>
</Properties>
</file>