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8CAF0-2FBD-4FC4-B349-C9A0BED0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D7266-4FE0-497D-86FE-A48E6B534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F6B60-201B-4979-AC24-861442D1E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4E27F-FE91-44B5-A2DF-B73C90225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94AE5-7BF8-4796-848E-0C1B27B8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2CEC8-64FC-4DD6-8984-3EBED106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F1440-DD63-42B8-AED5-915145E17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3A4A2-0AEC-423A-9772-8B8CA3D67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CF02C-AF6F-469F-BA07-8840ECDA3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B92D-8CA2-4114-9DD8-D6121C50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1A75-706A-4543-88B7-F34DD9D1B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E6C33-FCBB-45C2-96B7-D3F844695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319E-84A1-473A-B472-7D7B04110C9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81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8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17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9</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08 қазан </a:t>
            </a:r>
            <a:r>
              <a:rPr b="1" lang="ru-RU" sz="1200" spc="-1" strike="noStrike">
                <a:solidFill>
                  <a:srgbClr val="000000"/>
                </a:solidFill>
                <a:latin typeface="Times New Roman"/>
                <a:ea typeface="Times New Roman"/>
              </a:rPr>
              <a:t>2022 ж. сағ. 21-ден 09</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2022 ж. 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кей уақыттарда жаңбыр жауады. Батыстан, солтүстік-батыстан жел соғады</a:t>
            </a:r>
            <a:r>
              <a:rPr b="0" lang="ru-RU" sz="1200" spc="-1" strike="noStrike">
                <a:solidFill>
                  <a:srgbClr val="000000"/>
                </a:solidFill>
                <a:latin typeface="Times New Roman"/>
                <a:ea typeface="Times New Roman"/>
              </a:rPr>
              <a:t>, күші 9-14</a:t>
            </a:r>
            <a:r>
              <a:rPr b="0" lang="kk-KZ" sz="1200" spc="-1" strike="noStrike">
                <a:solidFill>
                  <a:srgbClr val="000000"/>
                </a:solidFill>
                <a:latin typeface="Times New Roman"/>
                <a:ea typeface="Times New Roman"/>
              </a:rPr>
              <a:t>, екпіні 15-20 м/с. Ауаның температурасы түнде 3-5, күндіз 6-8</a:t>
            </a:r>
            <a:r>
              <a:rPr b="0" lang="ru-RU" sz="1200" spc="-1" strike="noStrike">
                <a:solidFill>
                  <a:srgbClr val="000000"/>
                </a:solidFill>
                <a:latin typeface="Times New Roman"/>
                <a:ea typeface="Times New Roman"/>
              </a:rPr>
              <a:t> градус жылы.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2022 жылғы 10</a:t>
            </a:r>
            <a:r>
              <a:rPr b="1" lang="kk-KZ" sz="1200" spc="-1" strike="noStrike">
                <a:solidFill>
                  <a:srgbClr val="000000"/>
                </a:solidFill>
                <a:latin typeface="Times New Roman"/>
                <a:ea typeface="Times New Roman"/>
              </a:rPr>
              <a:t>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09 қазан </a:t>
            </a:r>
            <a:r>
              <a:rPr b="1" lang="ru-RU" sz="1200" spc="-1" strike="noStrike">
                <a:solidFill>
                  <a:srgbClr val="000000"/>
                </a:solidFill>
                <a:latin typeface="Times New Roman"/>
                <a:ea typeface="Times New Roman"/>
              </a:rPr>
              <a:t>сағ. 21-ден бастап 10</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 </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жаңбырдың соңы қарға ұласады</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 жауады. Батыстан, оңтүстік-батыстан жел соғады, күші 9-14 м/с. Ауаның температурасы 2-4 градус жылы.</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8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5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70836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8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18040" y="2351160"/>
            <a:ext cx="4680000" cy="82404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сейілуіне</a:t>
            </a:r>
            <a:r>
              <a:rPr b="0" lang="kk-KZ" sz="1200" spc="-1" strike="noStrike">
                <a:solidFill>
                  <a:srgbClr val="000000"/>
                </a:solidFill>
                <a:latin typeface="Times New Roman"/>
                <a:ea typeface="Times New Roman"/>
              </a:rPr>
              <a:t> 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ауаның ластану деңгейі көтеріңкі болады деп күтілуде.</a:t>
            </a:r>
            <a:endParaRPr b="0" lang="en-US" sz="1200" spc="-1" strike="noStrike">
              <a:solidFill>
                <a:srgbClr val="000000"/>
              </a:solidFill>
              <a:latin typeface="Calibri"/>
            </a:endParaRPr>
          </a:p>
        </p:txBody>
      </p:sp>
      <p:sp>
        <p:nvSpPr>
          <p:cNvPr id="52" name="TextBox 13"/>
          <p:cNvSpPr/>
          <p:nvPr/>
        </p:nvSpPr>
        <p:spPr>
          <a:xfrm>
            <a:off x="5118120" y="32893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254160" y="971640"/>
            <a:ext cx="4760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Ұсыныстар жоқ</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8T07:56:29Z</dcterms:modified>
  <cp:revision>279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