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7777C-3627-4C3F-8402-D91DD7D12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06BF0-B337-4D98-B7FA-C213DC7AC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53CFA-7715-4249-8486-E6F68C932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606A1-BF1A-456F-9B6A-82DED8849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807F8-9A32-4654-ABFB-0A30B17CA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C0588-EEC5-4FAE-B3C4-800686E53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2EC8D-F431-4102-878B-0D7DC0087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CE9BE-4215-41E8-940D-694876B56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5EDD-B3DC-45D2-9B74-386BF0F9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62525-2D13-4E54-ACEE-F8BF63ABD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C0EA6-5194-4BFA-9EA2-3BF6D7E54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40E56-3B26-4F00-88C1-D3516393F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8A9A-74B4-4D5C-A943-CDDA3A98C55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81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8</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2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6</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08</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9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08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09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Оңтүстік-шығыстан жел соғады, күші түнде 0-5, күндіз 5-10 м/с. Ауа температурасы түнде 6-8, күндіз 18-20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0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9 қазан 20 сағаттан бастап  10 қаз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Оңтүстік-шығыстан жел соғады, күші  9-14, екпіні 15-18 м/с</a:t>
            </a:r>
            <a:r>
              <a:rPr b="0" lang="ru-RU" sz="1200" spc="-1" strike="noStrike">
                <a:solidFill>
                  <a:srgbClr val="000000"/>
                </a:solidFill>
                <a:latin typeface="Times New Roman"/>
                <a:ea typeface="Times New Roman"/>
              </a:rPr>
              <a:t>. Ауа температурасы түнде  12-14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9 қазан, 10 қазан қараған түні метеорологиялық жағдайлар қала атмосферасында ластаушы заттардың жинал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төмен</a:t>
            </a:r>
            <a:r>
              <a:rPr b="1"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03120" y="792000"/>
            <a:ext cx="4380120" cy="2689200"/>
          </a:xfrm>
          <a:prstGeom prst="rect">
            <a:avLst/>
          </a:prstGeom>
          <a:noFill/>
          <a:ln w="0">
            <a:noFill/>
          </a:ln>
        </p:spPr>
        <p:style>
          <a:lnRef idx="0"/>
          <a:fillRef idx="0"/>
          <a:effectRef idx="0"/>
          <a:fontRef idx="minor"/>
        </p:style>
        <p:txBody>
          <a:bodyPr lIns="90000" rIns="90000" tIns="46800" bIns="46800" anchor="t">
            <a:spAutoFit/>
          </a:bodyPr>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endParaRPr b="0" lang="en-US" sz="1400" spc="-1" strike="noStrike">
              <a:solidFill>
                <a:srgbClr val="000000"/>
              </a:solidFill>
              <a:latin typeface="Calibri"/>
            </a:endParaRPr>
          </a:p>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endParaRPr b="0" lang="en-US" sz="1400" spc="-1" strike="noStrike">
              <a:solidFill>
                <a:srgbClr val="000000"/>
              </a:solidFill>
              <a:latin typeface="Calibri"/>
            </a:endParaRPr>
          </a:p>
          <a:p>
            <a:pPr indent="176040" algn="just">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физикалық белсенділікті шектеңіз. Жабық спорт кешендерінде дене шынықтыру және спортпен айналысу.</a:t>
            </a:r>
            <a:endParaRPr b="0" lang="en-US" sz="1400" spc="-1" strike="noStrike">
              <a:solidFill>
                <a:srgbClr val="000000"/>
              </a:solidFill>
              <a:latin typeface="Calibri"/>
            </a:endParaRPr>
          </a:p>
        </p:txBody>
      </p:sp>
      <p:sp>
        <p:nvSpPr>
          <p:cNvPr id="66"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08T07:59:33Z</dcterms:modified>
  <cp:revision>244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