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E94-F161-4A78-9238-4472CE71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FED-ECAC-4871-A8EE-94224A81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A1E-44D7-4360-8B6F-3EFCB4C6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185-B6E7-49E0-818B-E587D562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B7D-4719-4BAD-A107-5D1DFA6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31F-19AD-44BB-97AB-86C5F438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4D5-F9E5-44E8-AE3E-63777217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2D4-1E79-429A-930B-CE1A55CE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18D-9EE0-4111-9AFE-9C324A5B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308-D9A6-4EA0-819E-0C774491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19E-CA11-4FBC-A6AA-183D4E6B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DE6-1D87-4CFC-BB64-1C124CBC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2DB5-07D0-4BD9-8A7A-CECF2363E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02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4952880" y="378612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 окт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3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02 октября 2022 г. до 21 ч. 03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восточный 3-8 м/с. Температура воздуха ночью 2-4 мороза, днем 9-11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03 октября до 09 ч.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Переменная облачность, без осадков. Ветер северо-восточный       7-12 м/с. Температура воздуха 2-4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357280"/>
            <a:ext cx="4714920" cy="824040"/>
          </a:xfrm>
          <a:prstGeom prst="rect">
            <a:avLst/>
          </a:prstGeom>
          <a:solidFill>
            <a:srgbClr val="f2902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 октяб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 октяб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тся повышенный уровень загрязнения возд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50028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9"/>
          <p:cNvSpPr/>
          <p:nvPr/>
        </p:nvSpPr>
        <p:spPr>
          <a:xfrm>
            <a:off x="231840" y="789120"/>
            <a:ext cx="47131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физическую нагрузку на открытом воздухе. Занятие физкультурой и спортом проводить в закрытых спортивных комплек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1-07-01T07:38:07Z</cp:lastPrinted>
  <dcterms:modified xsi:type="dcterms:W3CDTF">2022-10-02T09:05:46Z</dcterms:modified>
  <cp:revision>27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