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35B-D148-4C11-A1D9-ADC34DFF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E3D-7823-4A15-BCDF-85D14E24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2E5-25EA-4D6A-B4CA-60A6DE62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ADC-0966-489C-B225-8A7A5EE6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CC5-78BA-4931-B6AE-ACD5F727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44F-CDD4-4505-8E95-4F89A39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930-85FB-492D-8856-C05B8F1B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804-9790-4107-A663-A98C132E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888-7A42-4432-BA8E-777D55CC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3DE-7333-4BFE-816F-0F84265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2A3-C3AD-4E4D-8CD1-72E0A73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2AB-7760-495B-889B-E2A62E6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5D1-F6CD-43E4-B400-7ED6743BD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2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3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2 октября по 20 ч. 03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9-14, порывы 15-20 м/с. Температура воздуха ночью 11-13, днем 18-20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4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3 октября по 08 ч. 04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9-14, порывы 15-20 м/с. Температура воздуха ночью 10-1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октября , ночью 04 окт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1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06360" y="69048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02T09:07:51Z</dcterms:modified>
  <cp:revision>24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