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928D3-D43C-4C2C-9F50-4E35560B4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CEA8C-85C0-4A48-BDEE-EAF890898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76807-194A-4EE1-8968-2FCC16D92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BE187-29F4-4A7B-94BE-59B5BE938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4A232-BB76-4A0B-A4FC-88C0EE15D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316C6-7FE3-4DE7-A9C9-978B5FEEF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A5848-7157-4AAA-8628-4E2D3F906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CFA8D-BD90-4C21-A9EA-A70D08E84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AF99B-7BD2-46F5-AD4F-C186107B6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DDF0E-CB85-4947-BC12-B2E48F86C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4D441-96F7-4C5F-AEAF-E13CE9557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1610A-CB03-4972-9074-FAA627ABB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1797-6463-40A6-AF6C-B820AF00DD8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75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2</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зан</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7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02</a:t>
            </a:r>
            <a:r>
              <a:rPr b="1" lang="ru-RU" sz="1200" spc="-1" strike="noStrike">
                <a:solidFill>
                  <a:srgbClr val="000000"/>
                </a:solidFill>
                <a:latin typeface="Times New Roman"/>
                <a:ea typeface="Times New Roman"/>
              </a:rPr>
              <a:t> қазан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809960" y="139680"/>
            <a:ext cx="49626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3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02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20 сағаттан бастап 03 қазан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Оңтүстік-шығыстан жел соғады, күші 9-14, екпіні 15-20 м/с. Ауа температурасы түнде 11-13, күндіз 18-20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4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3 қазан 20 сағаттан бастап  04 қазан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Оңтүстік-шығыстан жел соғады, күші  9-14, екпіні 15-20 м/с</a:t>
            </a:r>
            <a:r>
              <a:rPr b="0" lang="ru-RU" sz="1200" spc="-1" strike="noStrike">
                <a:solidFill>
                  <a:srgbClr val="000000"/>
                </a:solidFill>
                <a:latin typeface="Times New Roman"/>
                <a:ea typeface="Times New Roman"/>
              </a:rPr>
              <a:t>. Ауа температурасы түнде  10-12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3 қазан, 04 қазан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төмен</a:t>
            </a:r>
            <a:r>
              <a:rPr b="1" lang="kk-KZ"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Қабдуалиева М.С.</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6"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7"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8"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
        <p:nvSpPr>
          <p:cNvPr id="69" name="TextBox 2"/>
          <p:cNvSpPr/>
          <p:nvPr/>
        </p:nvSpPr>
        <p:spPr>
          <a:xfrm>
            <a:off x="382680" y="879480"/>
            <a:ext cx="495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Ұсыныстар жоқ</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02T09:07:45Z</dcterms:modified>
  <cp:revision>243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