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DDB2F-FDC5-4BA3-81BA-B03FE3E30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3423C-E9A6-4EE1-BA71-D9AD8C748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6D387-2101-4DCD-B779-A9AEA5AE6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95121-2468-4C51-8C08-A27E64FA9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10065-E0C4-40CA-8927-69ED4E54B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D84E2-8845-4057-BF00-4934DA75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F3A8F-7C13-4D9D-BCE3-9854D02FD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630A8-CB60-4ACD-9CDF-81EEE5CB7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73919-0736-4ABD-A2F6-F972D7AF1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965AD-6B93-4D63-9808-65A2D329D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DB7ED-635B-4EA8-B5BA-DC1395560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41786-8923-4E38-9521-6EE5332FF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18A8-276C-4943-8118-7658FE0E072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74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1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2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1 қазан сағ. 21-ден 02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2-4, күндіз 12-14 градус жыл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03 қаз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2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03 қазан сағ. 09-ға дейін</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3-5 градус жылы.</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3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99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1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4952880" y="2421000"/>
            <a:ext cx="472932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2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03 қазан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06200" y="3233880"/>
            <a:ext cx="470880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а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6"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7"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9" name="TextBox 2"/>
          <p:cNvSpPr/>
          <p:nvPr/>
        </p:nvSpPr>
        <p:spPr>
          <a:xfrm>
            <a:off x="160200" y="944640"/>
            <a:ext cx="45421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01T08:34:04Z</dcterms:modified>
  <cp:revision>272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