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44E-21C4-4250-9285-CCD4546C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ABC-274D-41F1-AB58-FB926306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A23-C3B3-4527-B43B-1AA48C3F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0A2-E7D0-4CD2-A483-080A3060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226-F0A7-470A-A086-E49CD89E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F58-BF7F-4C0E-8538-BBAD13E6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D52-F687-4AAD-8589-64492122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CA6-1648-4A8C-8A92-6C790DA3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67E-17AB-49BB-881B-99530A4B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C72-DBCD-44F6-BBFE-D84AFC4C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BD67-F8FA-4CF1-9476-276C8C3E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9F3-A7EF-4D5D-B3E9-9607F0AD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1D15-863B-4B18-8042-EE5CF5169B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1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2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01 октября по 20 ч. 02 окт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дождь. Ветер юго-восточный ночью 2-7, днем 9-14 м/с. Температура воздуха ночью 13-15, днем 22-24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3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02 октября по 08 ч. 03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юго-восточный 9-14 м/с. Температура воздуха ночью 13-15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e46c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 октября , ночью 03 октября 2022 года метеорологические условия будут способствовать ночью накопле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5"/>
          <p:cNvGrpSpPr/>
          <p:nvPr/>
        </p:nvGrpSpPr>
        <p:grpSpPr>
          <a:xfrm>
            <a:off x="112680" y="246240"/>
            <a:ext cx="4840200" cy="2304360"/>
            <a:chOff x="112680" y="246240"/>
            <a:chExt cx="4840200" cy="2304360"/>
          </a:xfrm>
        </p:grpSpPr>
        <p:sp>
          <p:nvSpPr>
            <p:cNvPr id="58" name="TextBox 15"/>
            <p:cNvSpPr/>
            <p:nvPr/>
          </p:nvSpPr>
          <p:spPr>
            <a:xfrm>
              <a:off x="317160" y="246240"/>
              <a:ext cx="46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АЦИИ ДЛЯ НАСЕЛЕНИЯ ПРИ НМУ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16"/>
            <p:cNvSpPr/>
            <p:nvPr/>
          </p:nvSpPr>
          <p:spPr>
            <a:xfrm>
              <a:off x="112680" y="555120"/>
              <a:ext cx="4810320" cy="19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сократить время пребывания на открытом воздухе, особенно вблизи автотрасс или других источников загрязнения. Детям и беременным женщинам следует отказаться от длительных прогулок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людям, страдающим хроническими заболеваниями легких, сердечно-сосудистыми, аллергическими заболеваниями, при нахождении на открытом воздухе, необходимо иметь при себе необходимые лекарственные препараты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ограничить физическую нагрузку на открытом воздухе. Занятие физкультурой и спортом проводить в закрытых спортивных комплексах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3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5141880" y="615960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Қабдуалие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2-06-26T09:30:29Z</cp:lastPrinted>
  <dcterms:modified xsi:type="dcterms:W3CDTF">2022-10-01T08:39:17Z</dcterms:modified>
  <cp:revision>24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