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B18A-5449-4D35-A1D3-88442660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4F9C-7B9E-43D4-B589-B72A0D52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BF8E-E62A-4E63-A6B7-06A38763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60C1-E5AE-484D-9E05-6C943470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F828-D147-4FBF-9EE6-DCF8245D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131E-59E2-466A-B7E2-0ABBDE41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026-930E-4D18-AC5B-C3D905E3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34D5-C87B-4212-9EEF-E810F989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3211-6CD4-497D-BDE8-51BB3E48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14A1-4A8A-4D5A-AC27-5FA4A51A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F4D-D065-4F32-9874-9999E145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5694-D4A3-4FC7-9F7E-5CF066B4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149F-3F83-4B07-BEA7-426BFC5F51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35120"/>
          <a:ext cx="4465800" cy="217980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17980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№26</a:t>
                      </a:r>
                      <a:r>
                        <a:rPr b="1" i="1" lang="kk-KZ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4 сент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Прямоугольник 2"/>
          <p:cNvSpPr/>
          <p:nvPr/>
        </p:nvSpPr>
        <p:spPr>
          <a:xfrm>
            <a:off x="4952880" y="112680"/>
            <a:ext cx="4824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5 сен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24 сентября по 20 ч. 25 сентября 2022 г.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ю и утром дождь. Ветер северо-западный 9-14, порывы 15-20 м/с. Температура воздуха ночью 11-13, днем 18-20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6 сен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25 сентября по 08 ч. 26 сент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Ветер западный 9-14, порывы 15-18 м/с. Температура воздуха ночью 10-12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0440" y="6527880"/>
          <a:ext cx="4730760" cy="21276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21"/>
          <p:cNvSpPr/>
          <p:nvPr/>
        </p:nvSpPr>
        <p:spPr>
          <a:xfrm>
            <a:off x="4960800" y="3500280"/>
            <a:ext cx="48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4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т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68800" y="4000680"/>
          <a:ext cx="4624560" cy="2527200"/>
        </p:xfrm>
        <a:graphic>
          <a:graphicData uri="http://schemas.openxmlformats.org/drawingml/2006/table">
            <a:tbl>
              <a:tblPr/>
              <a:tblGrid>
                <a:gridCol w="1812960"/>
                <a:gridCol w="1386000"/>
                <a:gridCol w="142560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, мкг/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ревышения ПД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5"/>
          <p:cNvSpPr/>
          <p:nvPr/>
        </p:nvSpPr>
        <p:spPr>
          <a:xfrm>
            <a:off x="5024520" y="3143160"/>
            <a:ext cx="468144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 1, 2, 3 степени НМУ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2071800"/>
            <a:ext cx="4681440" cy="100656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сентября, ночью 26 сентября 2022 года метеорологические условия будут способствовать рассеиванию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ниженный уровень  загрязнения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Группа 5"/>
          <p:cNvGrpSpPr/>
          <p:nvPr/>
        </p:nvGrpSpPr>
        <p:grpSpPr>
          <a:xfrm>
            <a:off x="112680" y="246240"/>
            <a:ext cx="4840200" cy="585360"/>
            <a:chOff x="112680" y="246240"/>
            <a:chExt cx="4840200" cy="585360"/>
          </a:xfrm>
        </p:grpSpPr>
        <p:sp>
          <p:nvSpPr>
            <p:cNvPr id="58" name="TextBox 15"/>
            <p:cNvSpPr/>
            <p:nvPr/>
          </p:nvSpPr>
          <p:spPr>
            <a:xfrm>
              <a:off x="317160" y="246240"/>
              <a:ext cx="463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КОМЕНДАЦИИ ДЛЯ НАСЕЛЕНИЯ ПРИ НМУ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Box 16"/>
            <p:cNvSpPr/>
            <p:nvPr/>
          </p:nvSpPr>
          <p:spPr>
            <a:xfrm>
              <a:off x="112680" y="555120"/>
              <a:ext cx="4810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176040" algn="just"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комендации отсутствую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Прямоугольник 26"/>
          <p:cNvSpPr/>
          <p:nvPr/>
        </p:nvSpPr>
        <p:spPr>
          <a:xfrm>
            <a:off x="276120" y="4587840"/>
            <a:ext cx="466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тырау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5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микрорайон Самал, улица А.Кекильбаева, 1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5 – микрорайон Курсай, улица Карабау, строение 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6 – микрорайон Жулдыз, улица №6, 2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- район Химпоселок, Сырдарья №3 (спец, школа для детей с нарушением реч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- микрайон Береке, район промзоны Бер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3"/>
          <p:cNvSpPr/>
          <p:nvPr/>
        </p:nvSpPr>
        <p:spPr>
          <a:xfrm>
            <a:off x="4923000" y="92160"/>
            <a:ext cx="48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24"/>
          <p:cNvGrpSpPr/>
          <p:nvPr/>
        </p:nvGrpSpPr>
        <p:grpSpPr>
          <a:xfrm>
            <a:off x="5257800" y="4489560"/>
            <a:ext cx="4290840" cy="1747800"/>
            <a:chOff x="5257800" y="4489560"/>
            <a:chExt cx="4290840" cy="1747800"/>
          </a:xfrm>
        </p:grpSpPr>
        <p:pic>
          <p:nvPicPr>
            <p:cNvPr id="63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260680" y="5434560"/>
              <a:ext cx="4041720" cy="8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Прямоугольник 8"/>
            <p:cNvSpPr/>
            <p:nvPr/>
          </p:nvSpPr>
          <p:spPr>
            <a:xfrm>
              <a:off x="5271480" y="4672800"/>
              <a:ext cx="2125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Нур-Султан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оугольник 20"/>
            <p:cNvSpPr/>
            <p:nvPr/>
          </p:nvSpPr>
          <p:spPr>
            <a:xfrm>
              <a:off x="5257800" y="4489560"/>
              <a:ext cx="4290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Прямоугольник 11"/>
          <p:cNvSpPr/>
          <p:nvPr/>
        </p:nvSpPr>
        <p:spPr>
          <a:xfrm>
            <a:off x="5018040" y="640080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5141880" y="6159600"/>
            <a:ext cx="452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дылбекова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997520" y="528480"/>
          <a:ext cx="4703760" cy="816120"/>
        </p:xfrm>
        <a:graphic>
          <a:graphicData uri="http://schemas.openxmlformats.org/drawingml/2006/table">
            <a:tbl>
              <a:tblPr/>
              <a:tblGrid>
                <a:gridCol w="1035000"/>
                <a:gridCol w="3668760"/>
              </a:tblGrid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й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иж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2 ≤ Р &lt; 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9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Прямоугольник 30"/>
          <p:cNvSpPr/>
          <p:nvPr/>
        </p:nvSpPr>
        <p:spPr>
          <a:xfrm>
            <a:off x="4952880" y="1324080"/>
            <a:ext cx="48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1"/>
          <p:cNvSpPr/>
          <p:nvPr/>
        </p:nvSpPr>
        <p:spPr>
          <a:xfrm>
            <a:off x="4952880" y="2106720"/>
            <a:ext cx="47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016600" y="2382840"/>
          <a:ext cx="4680000" cy="2225520"/>
        </p:xfrm>
        <a:graphic>
          <a:graphicData uri="http://schemas.openxmlformats.org/drawingml/2006/table">
            <a:tbl>
              <a:tblPr/>
              <a:tblGrid>
                <a:gridCol w="861840"/>
                <a:gridCol w="381816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Box 33"/>
          <p:cNvSpPr/>
          <p:nvPr/>
        </p:nvSpPr>
        <p:spPr>
          <a:xfrm>
            <a:off x="4960800" y="4602240"/>
            <a:ext cx="48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 Kabdualieva</cp:lastModifiedBy>
  <cp:lastPrinted>2022-06-26T09:30:29Z</cp:lastPrinted>
  <dcterms:modified xsi:type="dcterms:W3CDTF">2022-09-24T07:52:05Z</dcterms:modified>
  <cp:revision>24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