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B7E54-FBD3-42CA-80EB-B02B9DF0C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F548-8F02-4D0A-A31B-29A538F2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C4CAB-B6C3-4531-B820-0F1A22FE1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8FDBC-F4FE-4CA9-9093-B174C3D2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02F08-B823-430F-BA3E-973DC687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0B23-592F-47E2-A6C3-1CC764C7E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552F-D48C-463C-9A8D-0D6CC55C5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CD4C-70DA-4882-BE17-9C5506FA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5A16D-59D6-48E1-8691-AD07BEB4E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16F1-5200-40C5-B454-4FD732FE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6C8C-3471-42E9-A120-250DB63E3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7B21-6BD0-42F7-8CAA-56CAABBD0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D5DD-5AB4-4772-A62E-0F15CA16357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6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4</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ыркүйек</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1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7</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4</a:t>
            </a:r>
            <a:r>
              <a:rPr b="1" lang="ru-RU" sz="1200" spc="-1" strike="noStrike">
                <a:solidFill>
                  <a:srgbClr val="000000"/>
                </a:solidFill>
                <a:latin typeface="Times New Roman"/>
                <a:ea typeface="Times New Roman"/>
              </a:rPr>
              <a:t> қыркүйек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ыркүйекке 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4 </a:t>
            </a:r>
            <a:r>
              <a:rPr b="1" lang="kk-KZ" sz="1200" spc="-1" strike="noStrike">
                <a:solidFill>
                  <a:srgbClr val="000000"/>
                </a:solidFill>
                <a:latin typeface="Times New Roman"/>
                <a:ea typeface="Times New Roman"/>
              </a:rPr>
              <a:t>қыркүйек </a:t>
            </a:r>
            <a:r>
              <a:rPr b="1" lang="ru-RU" sz="1200" spc="-1" strike="noStrike">
                <a:solidFill>
                  <a:srgbClr val="000000"/>
                </a:solidFill>
                <a:latin typeface="Times New Roman"/>
                <a:ea typeface="Times New Roman"/>
              </a:rPr>
              <a:t>20 сағаттан бастап 25 қыркүйек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Түнде және таңертен жаңбыр. Солтүстік-батыстан жел соғады, күші 9-14, екпіні 15-20 м/с. Ауа температурасы түнде 11-13, күндіз 18-20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a:t>
            </a:r>
            <a:r>
              <a:rPr b="1" lang="kk-KZ" sz="1200" spc="-1" strike="noStrike">
                <a:solidFill>
                  <a:srgbClr val="000000"/>
                </a:solidFill>
                <a:latin typeface="Times New Roman"/>
                <a:ea typeface="Times New Roman"/>
              </a:rPr>
              <a:t>қыркүйек</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ыркүйек 20 сағаттан бастап  26 қыркүйек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Батыстан жел соғады, күші  9-14, екпіні 15-18 м/с</a:t>
            </a:r>
            <a:r>
              <a:rPr b="0" lang="ru-RU" sz="1200" spc="-1" strike="noStrike">
                <a:solidFill>
                  <a:srgbClr val="000000"/>
                </a:solidFill>
                <a:latin typeface="Times New Roman"/>
                <a:ea typeface="Times New Roman"/>
              </a:rPr>
              <a:t>. Ауа температурасы түнде 10-12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5 қыркүйек, 26 қыркүйек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94360" y="624348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Кадылбекова А.</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32184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09-24T07:52:39Z</dcterms:modified>
  <cp:revision>242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