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690-40C9-4280-86DC-9713A669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6B4-D5AB-4E8B-90FD-7C595FE9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A93-1D46-4450-9FBC-D153371F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0B8-9EB2-407A-8EC6-9918DFBA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0AB-8966-4422-B54A-2CCF1C5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6C1-12B4-48FA-B5D4-6329474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DE4-54EC-41B4-8E82-CD6D518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C8F-5B14-4325-9CF9-F35D62F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EFE-BE23-4FA5-901A-8E654D1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1F9-AEFB-4052-B9BE-1A3C620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ACC-719B-4B52-B40F-6876637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13D-86B6-4D25-BDE9-35F1A7C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7F2D-685D-4588-8226-A0DF0300A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193536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19353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4 января 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68720" y="112680"/>
            <a:ext cx="4808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5 янв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3 января  по 20 ч. 04 янва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чно, ночью временами осадки (преимущественно снег). Ветер юго-западный 9-14 м/с. Температура воздуха ночью и днем 1-3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5 января по 08 ч. 06 января 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Без осадков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юго-западный 9-14 м/с. Температура воздуха ночью  4-6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560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4 янва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28608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18916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января, ночью 06 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я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112680" y="246240"/>
            <a:ext cx="4840200" cy="585360"/>
            <a:chOff x="112680" y="246240"/>
            <a:chExt cx="4840200" cy="585360"/>
          </a:xfrm>
        </p:grpSpPr>
        <p:sp>
          <p:nvSpPr>
            <p:cNvPr id="56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6"/>
            <p:cNvSpPr/>
            <p:nvPr/>
          </p:nvSpPr>
          <p:spPr>
            <a:xfrm>
              <a:off x="112680" y="555120"/>
              <a:ext cx="48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отсутствую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084640" y="618336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ляжева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Мейирхан Нурмахамбет</cp:lastModifiedBy>
  <cp:lastPrinted>2021-07-01T03:56:27Z</cp:lastPrinted>
  <dcterms:modified xsi:type="dcterms:W3CDTF">2022-01-04T08:24:33Z</dcterms:modified>
  <cp:revision>198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