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CEC-217A-44F3-9920-52C64D5D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5B6-4C3F-4CA4-BDD1-798D505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37B-62CC-4012-9B3D-B7F72348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F78-9769-4229-89CE-1D7D33F3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857-FCD1-4EFA-B97B-C15655DD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0F4-EE71-4C7C-9F64-AF837AD7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F4F-8D9E-4FBF-AFD0-26C75A9B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F4B-506A-4CAB-95F5-65173C58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FA6-172A-4BCA-9750-DFFB98FA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DB4-D5FC-44AA-BCC0-EA78FCCF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4DC-BDEC-4788-AB44-474E3E7C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589-0FC4-413C-A38A-A99D531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F0DA-3301-4D71-9E48-91E577C37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193536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19353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3 января 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68720" y="112680"/>
            <a:ext cx="48085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4 янв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3 января  по 20 ч. 04 янва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чно, утром и днем осадки (преимущественно снег), гололед, низовая метель. Ветер северо-западный с переходом на юго-западный 9-14, днем порывы 15-20 м/с. Температура воздуха ночью 6-8, днем 0-2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ва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4 января по 08 ч. 05 января 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Ночью осадки, гололед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юго-западный 9-14 м/с. Температура воздуха ночью  0-2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560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 янва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28608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2860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января, ночью 05 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варя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5"/>
          <p:cNvGrpSpPr/>
          <p:nvPr/>
        </p:nvGrpSpPr>
        <p:grpSpPr>
          <a:xfrm>
            <a:off x="112680" y="246240"/>
            <a:ext cx="4840200" cy="585360"/>
            <a:chOff x="112680" y="246240"/>
            <a:chExt cx="4840200" cy="585360"/>
          </a:xfrm>
        </p:grpSpPr>
        <p:sp>
          <p:nvSpPr>
            <p:cNvPr id="56" name="TextBox 15"/>
            <p:cNvSpPr/>
            <p:nvPr/>
          </p:nvSpPr>
          <p:spPr>
            <a:xfrm>
              <a:off x="317160" y="246240"/>
              <a:ext cx="46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ДЛЯ НАСЕЛЕНИЯ ПРИ НМУ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6"/>
            <p:cNvSpPr/>
            <p:nvPr/>
          </p:nvSpPr>
          <p:spPr>
            <a:xfrm>
              <a:off x="112680" y="555120"/>
              <a:ext cx="481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отсутствую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1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5084640" y="618336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пан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Мейирхан Нурмахамбет</cp:lastModifiedBy>
  <cp:lastPrinted>2021-07-01T03:56:27Z</cp:lastPrinted>
  <dcterms:modified xsi:type="dcterms:W3CDTF">2022-01-03T07:45:49Z</dcterms:modified>
  <cp:revision>198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